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1C54-4D60-4C90-BC8D-C4B8CD90F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DFDB2-F218-4AB5-930B-0712A9692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A155-C396-4FE4-9EE9-83DF98BCF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D43C-3826-46A1-9F98-00F1439A7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C74E3-2C26-49EA-BF02-5CAA331AD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186FE-FF08-446B-B88D-B1FEA4204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030AC-AD87-4CD1-8CF6-9E646E388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11C9E-ACAE-4F16-9FCA-FA707C6F8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283DD-E14B-4DD1-857E-C2596782A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5152C-4CD4-4154-B031-EB094FB15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A6B7A-6A5E-4F82-9DD9-0889B9CEC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6E39-BF33-4834-91E9-65D645DE3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274EF-2582-49FE-A5E1-AE2C59DAE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88B80-BBDF-4956-B646-B70F3F79B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83A94-3745-4C2C-9B92-F6A5D0011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2F907-902C-4C6A-ABFB-0D45D9312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68B8A-6BE2-4C89-96CC-1A46D0AC8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E82A-6483-4D64-9AEC-086126BE4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22E6-4C03-4B32-A667-9CB2A5C47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C254-EB41-414E-8D4C-F9ABE5EA3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E3CB-7311-4057-85F7-6D23A6E54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C8B5-8E64-43C8-9EA2-CF9572B5B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8A65-F880-4A67-9E2B-44F5799E0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A4CE-092C-4835-9226-EC4C6D87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AA8AB-A365-4C86-B2CF-F063A4077D3F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EB4BE-81AB-4DFC-B144-3198B3A6468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84240" y="1271160"/>
            <a:ext cx="7176960" cy="127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환경재료학 조별과제</a:t>
            </a:r>
            <a:br>
              <a:rPr sz="3600"/>
            </a:b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주제 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숯</a:t>
            </a:r>
            <a:endParaRPr b="1" lang="en-US" sz="2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0" y="2924280"/>
            <a:ext cx="457200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5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최수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09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김혜민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방정환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,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장태호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(12</a:t>
            </a: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학번</a:t>
            </a:r>
            <a:r>
              <a:rPr b="0" lang="en-US" sz="24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2320560"/>
            <a:ext cx="7693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부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오랜시간이 지나도 미생물이나 곰팡이 등의 영향을 받지 않아서 방부제 대용으로 사용이 가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하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화기능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내부에 다공질로 되어 있는 구조 덕분에 오염된 공기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물 등이 다공질 구조을 통과하면 정화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 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습도 조절 기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무수히 많은 구멍들이 물을 흡착하여 주위의 습도를 줄여주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건조하면 수분을 방출하여 습도조절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자연스럽게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826920" y="2204640"/>
            <a:ext cx="76932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혈액 정화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산성혈액을 중화시켜 저항력 있는 약 알카리성 혈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바꿈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정신 안정작용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교감 신경을 자극하여 심신을 안정시키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행복감을 증폭시키는 엔도르핀을 활성화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시킨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자율신경 조정작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불면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두통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냉증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어깨 결림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만성피로 등의 증상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음이온이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밸런스를 잡아주는 역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을 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82692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발생으로의 효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면역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면역의 중심은 장과 간에서 관여하는데 </a:t>
            </a:r>
            <a:r>
              <a:rPr b="0" lang="ko-KR" sz="2700" spc="-1" strike="noStrike">
                <a:solidFill>
                  <a:srgbClr val="002060"/>
                </a:solidFill>
                <a:latin typeface="굴림"/>
              </a:rPr>
              <a:t>음이온이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 장과 간을 강화시키면서 건강한 생활을  가능하도록 도와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폐 기능 강화작용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폐 기능을 높이기 위하여 탄산가스 배출을 촉진하고 산소 교환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을 늘인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75"/>
              </a:spcBef>
              <a:buClr>
                <a:srgbClr val="003366"/>
              </a:buClr>
              <a:buSzPct val="75000"/>
              <a:buFont typeface="굴림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700" spc="-1" strike="noStrike">
                <a:solidFill>
                  <a:srgbClr val="003366"/>
                </a:solidFill>
                <a:latin typeface="굴림"/>
              </a:rPr>
              <a:t>공기 정화 기능 </a:t>
            </a:r>
            <a:r>
              <a:rPr b="0" lang="en-US" sz="27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음이온은 </a:t>
            </a:r>
            <a:r>
              <a:rPr b="0" lang="ko-KR" sz="2700" spc="-1" strike="noStrike">
                <a:solidFill>
                  <a:srgbClr val="ff0000"/>
                </a:solidFill>
                <a:latin typeface="굴림"/>
              </a:rPr>
              <a:t>오염된 공기를 중화하고 정화하여 실내의 공기를 상쾌하고 깨끗한 장소</a:t>
            </a:r>
            <a:r>
              <a:rPr b="0" lang="ko-KR" sz="2700" spc="-1" strike="noStrike">
                <a:solidFill>
                  <a:srgbClr val="003366"/>
                </a:solidFill>
                <a:latin typeface="굴림"/>
              </a:rPr>
              <a:t>로 만들어준다</a:t>
            </a:r>
            <a:endParaRPr b="0" lang="en-US" sz="27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효능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방사선 차단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원래 나무는 전기가 통하지 않지만 숯이 되면</a:t>
            </a:r>
            <a:r>
              <a:rPr b="0" lang="en-US" sz="2800" spc="-1" strike="noStrike">
                <a:solidFill>
                  <a:srgbClr val="002060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전기 특성을 띄어 전기가 통하게 되는데 실내 공간에 방출된 전자파는 숯의 내부로 흡수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냄새 제거 효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부패균의 발생을 억제해서 냄새의 근원을 없애고 그 악취를 흡착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쌀 보관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쓰레기통 냄새 제거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방충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식 보관할 떄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실내 공기 정화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 가마에 이용될 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우리 생활에 사용되는 숯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900000" y="242064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불 사용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사무실 책상 앞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전자파 차단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과일 씻을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미네랄 방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목욕할 때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정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음이온 기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옷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신발장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탈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습도 조절 효과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미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늘날 생활의 변화에 따라 수요가 줄어들었으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갈비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불불고기 등으로 숯에 대한 향수는 아직 많이 남아 있고</a:t>
            </a:r>
            <a:r>
              <a:rPr b="0" lang="en-US" sz="2800" spc="-1" strike="noStrike">
                <a:solidFill>
                  <a:srgbClr val="ff0000"/>
                </a:solidFill>
                <a:latin typeface="굴림"/>
              </a:rPr>
              <a:t>,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리고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숯을 만드는 재료가 늘어나고 화석연료 사용이 어려운 상황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에 놓이면 숯의 </a:t>
            </a:r>
            <a:r>
              <a:rPr b="0" lang="ko-KR" sz="2800" spc="-1" strike="noStrike">
                <a:solidFill>
                  <a:srgbClr val="ff0000"/>
                </a:solidFill>
                <a:latin typeface="굴림"/>
              </a:rPr>
              <a:t>수요는 늘어날 것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으로 전망된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장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석유등 화석 연료의 사용을 줄 일수 있어서 환경친화적이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가 원료이기 때문에 나무가 없어지지 않는 한 숯은 계속 만들수 있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효능도 매우 좋지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생김새가 특이해서 장식용으로도 손색이 없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지 않아서 반영구적으로 사용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단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루 날림이 있어서 여기저기 붙어서 잘 떨어지지 않는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높은 흡착력 때문에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흡착력이 뛰어나서 호흡기로 들어가면 잘 떨어지지 않아서 신체에 유해 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은 확률적으로 만들어지는 비율이 매우 낮기 때문에 나무가 손실될 수 있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목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7720" y="2361960"/>
            <a:ext cx="3770280" cy="42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 이란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이 사용된 시기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을 만들수 있는 수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 </a:t>
            </a: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숯의 가격과 쓰이는 곳에 따라서 나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 만드는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종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대분류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분류에 따         라 구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76064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효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└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각종 기능 설명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003366"/>
                </a:solidFill>
                <a:latin typeface="굴림"/>
              </a:rPr>
              <a:t>우리 생활에 사용되는 숯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굴림"/>
              </a:rPr>
              <a:t>     </a:t>
            </a:r>
            <a:endParaRPr b="0" lang="en-US" sz="22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미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숯의 장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&amp;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단점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2060"/>
                </a:solidFill>
                <a:latin typeface="굴림"/>
              </a:rPr>
              <a:t>숯이란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나무를 숯가마에 넣어서 구워낸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굴림"/>
              </a:rPr>
              <a:t>검은 덩어리로 재가 되기 이전의 탄소덩어리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를 말한다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2" name="내용 개체 틀 4" descr="숯 사진.jpg"/>
          <p:cNvPicPr/>
          <p:nvPr/>
        </p:nvPicPr>
        <p:blipFill>
          <a:blip r:embed="rId1"/>
          <a:stretch/>
        </p:blipFill>
        <p:spPr>
          <a:xfrm>
            <a:off x="4643280" y="2637000"/>
            <a:ext cx="3888000" cy="35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이 사용된 시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0000"/>
                </a:solidFill>
                <a:latin typeface="굴림"/>
              </a:rPr>
              <a:t>숯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인간이 불을 발견하고 그것을 이용한 때부터 생겼을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록을 보면 인간은 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,0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사용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했다고 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석기시대를 지나 청동기시대와 철기시대로 접어들면서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야금기술에는 숯이 큰 역할을 하게 되었을 것이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우리 나라에서는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약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,600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년 전부터 숯을 이용한 것으로 추정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된다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참나무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–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비싸고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숯으로 나오는 양이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적어서 관상용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습기 등으로 많이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     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소나무    ┐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동백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격이 저렴해서 숯불용으로        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	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  많이 사용 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오리나무 │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&gt;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단풍나무 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760640" y="2361960"/>
            <a:ext cx="377028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←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↓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참나무 숯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9" name="Picture 8" descr="참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529080" cy="37242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참나무 숯"/>
          <p:cNvPicPr/>
          <p:nvPr/>
        </p:nvPicPr>
        <p:blipFill>
          <a:blip r:embed="rId2"/>
          <a:stretch/>
        </p:blipFill>
        <p:spPr>
          <a:xfrm>
            <a:off x="4761000" y="4149720"/>
            <a:ext cx="398772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을 만들수 있는 수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2" name="Picture 12" descr="소나무"/>
          <p:cNvPicPr/>
          <p:nvPr/>
        </p:nvPicPr>
        <p:blipFill>
          <a:blip r:embed="rId1"/>
          <a:stretch/>
        </p:blipFill>
        <p:spPr>
          <a:xfrm>
            <a:off x="1042920" y="2362320"/>
            <a:ext cx="3457800" cy="1785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3" descr="동백나무"/>
          <p:cNvPicPr/>
          <p:nvPr/>
        </p:nvPicPr>
        <p:blipFill>
          <a:blip r:embed="rId2"/>
          <a:stretch/>
        </p:blipFill>
        <p:spPr>
          <a:xfrm>
            <a:off x="4788000" y="2362320"/>
            <a:ext cx="3671640" cy="17859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4" descr="오리나무"/>
          <p:cNvPicPr/>
          <p:nvPr/>
        </p:nvPicPr>
        <p:blipFill>
          <a:blip r:embed="rId3"/>
          <a:stretch/>
        </p:blipFill>
        <p:spPr>
          <a:xfrm>
            <a:off x="1042920" y="4300560"/>
            <a:ext cx="3384720" cy="1785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5" descr="단풍나무"/>
          <p:cNvPicPr/>
          <p:nvPr/>
        </p:nvPicPr>
        <p:blipFill>
          <a:blip r:embed="rId4"/>
          <a:stretch/>
        </p:blipFill>
        <p:spPr>
          <a:xfrm>
            <a:off x="4788000" y="4300560"/>
            <a:ext cx="360036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 만드는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pic>
        <p:nvPicPr>
          <p:cNvPr id="117" name="내용 개체 틀 5" descr="캡처.JPG"/>
          <p:cNvPicPr/>
          <p:nvPr/>
        </p:nvPicPr>
        <p:blipFill>
          <a:blip r:embed="rId1"/>
          <a:stretch/>
        </p:blipFill>
        <p:spPr>
          <a:xfrm>
            <a:off x="1187280" y="2362320"/>
            <a:ext cx="7056720" cy="41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29560" y="346680"/>
            <a:ext cx="808488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숯의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755280" y="126792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흑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黑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755280" y="23493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흑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600∼7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로 정련한 뒤 숯가마 안에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2∼3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일간 두었다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100℃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정도가 되었을 때 꺼낸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하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3280" y="126792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백탄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白炭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858920" y="23493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0070c0"/>
                </a:solidFill>
                <a:latin typeface="굴림"/>
              </a:rPr>
              <a:t>백탄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은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800∼1300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의 높은 온도로 정련한 뒤 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꺼내어 흙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재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굴림"/>
              </a:rPr>
              <a:t>·</a:t>
            </a:r>
            <a:r>
              <a:rPr b="0" lang="ko-KR" sz="2400" spc="-1" strike="noStrike" u="sng">
                <a:solidFill>
                  <a:srgbClr val="ff0000"/>
                </a:solidFill>
                <a:uFillTx/>
                <a:latin typeface="굴림"/>
              </a:rPr>
              <a:t>탄불을 혼합한 소금을 덮어 빠른 속도로 불기를 꺼버린 것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을 말한다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23" name="직사각형 8"/>
          <p:cNvSpPr/>
          <p:nvPr/>
        </p:nvSpPr>
        <p:spPr>
          <a:xfrm>
            <a:off x="900000" y="4913280"/>
            <a:ext cx="7920000" cy="194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※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은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보다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탄화온도가 높기 때문에 탄소 함유비율도 흑탄의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75.2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에 비해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굴림"/>
              </a:rPr>
              <a:t>83.3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％로 높다</a:t>
            </a:r>
            <a:r>
              <a:rPr b="1" lang="en-US" sz="2000" spc="-1" strike="noStrike" u="sng">
                <a:solidFill>
                  <a:srgbClr val="002060"/>
                </a:solidFill>
                <a:uFillTx/>
                <a:latin typeface="굴림"/>
              </a:rPr>
              <a:t>.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흑탄을 굽는 가마는 주로 흙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으로 만들고 </a:t>
            </a:r>
            <a:r>
              <a:rPr b="1" lang="ko-KR" sz="2000" spc="-1" strike="noStrike" u="sng">
                <a:solidFill>
                  <a:srgbClr val="ff0000"/>
                </a:solidFill>
                <a:uFillTx/>
                <a:latin typeface="굴림"/>
              </a:rPr>
              <a:t>백탄을 굽는 가마는 돌</a:t>
            </a:r>
            <a:r>
              <a:rPr b="1" lang="ko-KR" sz="2000" spc="-1" strike="noStrike" u="sng">
                <a:solidFill>
                  <a:srgbClr val="002060"/>
                </a:solidFill>
                <a:uFillTx/>
                <a:latin typeface="굴림"/>
              </a:rPr>
              <a:t>을 많이 사용합니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9T01:12:38Z</dcterms:created>
  <dc:creator>Administrator</dc:creator>
  <dc:description/>
  <dc:language>en-US</dc:language>
  <cp:lastModifiedBy>USER</cp:lastModifiedBy>
  <dcterms:modified xsi:type="dcterms:W3CDTF">2012-05-17T11:31:38Z</dcterms:modified>
  <cp:revision>28</cp:revision>
  <dc:subject/>
  <dc:title>환경재료학 조별과제</dc:title>
</cp:coreProperties>
</file>