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F2C1-43CA-4AF4-A7E4-DA5603F51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5C4B-DD2F-4C84-B3F5-24B1CFEFA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C7EFBD9-B81D-42E5-8967-BA1BC5ED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5D3F6B-A628-434E-83CB-8F735D0F3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16677BA-5240-4FBA-A65F-F55C20695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5CE5949-B010-4D07-877B-F1BC184AD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710916-FFB8-456D-BE18-C348F9BE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17906D6-7F82-4CC6-8CD9-BB0031221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C93356C-A7F2-46E7-AEF1-AEAC387C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A38EE0E-8647-434A-8A52-BD280522C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C6A8249-A586-4E5D-853A-D239290A9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9FFB-AF0B-4E77-BCB8-C2D2B356B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E13E-736C-4493-959A-562C2447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54BE6C-2CD4-4500-B1FD-B5651CBE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53FAD-6CC5-40B4-B936-2DF41ED1A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E051E1-5958-44A6-962F-420C871ED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7F767B-868D-4EC9-BBE9-B19BDAAE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5CCD2-2B68-4E5C-AA9E-0715B5066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743847-8405-466C-B901-1A864F42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FBE840-EC7E-4D1D-917B-C0721F87A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4C3EA-3DD8-48AF-A928-6D8939B9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AF210A-3A4C-4F1B-91C0-80F07DCD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6658E-C71A-428B-A534-55367AD4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1BF1C4-0BE6-4CFA-AFA3-10FB4DC1C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6AC7DC-87C2-440C-9461-9AB8C9021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F7A320-1DB8-45D2-B16F-F66DCA231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7B069-D82F-442B-AE80-75E421979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416B2-740D-49BA-A90D-26213FE25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734D55-E4DA-4737-B837-05A926C26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147E5-9FC0-44E5-84F9-D0B3F750B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3360F-B988-4EAA-B10F-DBAF6FD4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8E83-F41D-46DD-AAE9-1519AAFFA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BFF64-A25E-4DAF-8C5C-89F1D44E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0477DE-3A5C-42AA-9287-2B8F8F6B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25479-F527-4537-A7FA-0FD913BD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AD8AF-B3EA-4E48-A534-4950002A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D118D0-3055-44EC-9177-E09A5B55F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505B7-9DEA-4681-93A8-99CCBE006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74FF3-3F30-4BE2-8F62-C7CA39641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63F7B9-CAE2-4414-971E-9E361252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5E8F5E-5B00-447F-8249-638FF77DF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E128D-EBC3-4699-9284-05F14C17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8C3A8-C486-452A-A5D1-D4B514BF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DCE00D-F85E-4C59-9C57-68384E76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9BB730-09AA-47C4-8A5D-7ADD21E7D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54A35-7686-44AC-A2B8-2E64868A8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AA7973-7865-4604-8556-E025E6EF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8C2D02-4E34-4FBF-A31E-37B174FE7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C476773-516C-4D25-8FB8-08D498B5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B73B65-627D-4670-8DFA-8BF420183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DFC3DFA-DAAD-4F51-895D-B7E03B5B8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D4977-579E-445E-8778-F207A38C1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824897-1249-497F-9A6E-15679D31C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D63-2307-40CA-BB99-B7BB8424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EF7FDA-CB58-4D8F-A3FA-830AA5CCE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B35240-9E2A-498A-994C-209423365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AB9448-9914-42EA-9996-88A21624A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29C510-BF9F-459F-AF4B-D8157F62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14D090-92AE-4614-95D9-2FD33F38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732E-1D11-481D-86E1-B568EACF7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2A994D-9379-4F2A-9580-3B059D9B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2EC080-9176-4D55-BDDA-0A13D1966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3BDC56-E707-44B1-B380-21AE2A6A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4F381-9F86-4657-B405-A0BB9D9B0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6379-EF91-416D-9A55-DC792765D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A0DCB-6E88-4269-B259-3DE0E7A9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C14607-DA9C-496E-BBAA-F876C5209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D95C57-CFC4-4710-B986-631CEB4F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AD8E49-388F-45B4-B981-983D04C01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7F9E29-6E02-4743-9B7C-759FF569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14C66-5176-4CE1-8202-EAFA2092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38FA34-80F2-42BE-9138-D5DE48B0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EC2270-1C7E-44BD-8514-55A19A15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2913F-DC61-466D-95D8-5045DDDC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66456E-124C-4A83-BF61-6F7F98FE7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2818-C1AB-4DC6-85C8-8DAD5C7B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24355-8844-4F08-9747-806455FB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FAC66-3227-4875-95AE-D5D899DEA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33C4D1-3B9C-4384-81CF-259EC4FB1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6E929F-CA40-4DE6-9A02-0D8F8085B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763C03-AF49-4E40-83A0-E993EB59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965E99-5EF5-404A-9E22-22393F4A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465A66-D2A9-4B52-9C5A-7D3DB7A69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C33B1-17AC-4E0A-9554-71B20C85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104949-FC7A-41DA-B546-4DFB3403C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A1FB8B-79DD-4D2D-8298-D95E0509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5B65-1429-45D0-80F2-F93DE4ACA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EACE4D-F4C6-4584-8889-4D1F12E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9A8D88-2150-4D4E-9CEC-C54EB881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AA1659-FC2B-4121-82DA-DD6A918F5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4CCE72-BE22-429B-B93B-B74C0F820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22DB5B-A08D-45B9-8F28-4E05E4547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416468A-0387-4793-B644-ECB1AAF1C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3064D5-61FE-4402-BCC2-A46F38D1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0482287-F05F-4213-B504-938E0F1F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5F9C9D-F383-40AB-A1EB-B573F79C2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A0FABD5-3029-4E7B-9071-A2EA5EE0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3816-4296-43E4-90D3-22964BB5E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57200" y="2538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1844EAD-6C75-49EF-BCF0-48E55986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73580F5-6CC7-471D-A515-A400DCA02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C3C05C8-E5F3-46AF-93BE-AC84E2655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114270C-31F0-42B2-B38A-DB5FCA6C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40104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D51EB1E-6398-4266-ACBD-8F8C5D064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46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40104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A14D09A-3D9C-4895-867A-57D4A2B17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46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40104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CB430A8-26A5-4889-A15E-59FF442F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A1DA15E-59DB-47D8-912E-2CA3FB48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BEF4285-B1A9-460F-B06A-5FE721732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4B5011-E50B-4351-8CB5-9D18633E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ftr" idx="1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2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F15D-668A-4E9D-B5C5-7038CFCB86F2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대각선 방향의 모서리가 둥근 사각형 7"/>
          <p:cNvGrpSpPr/>
          <p:nvPr/>
        </p:nvGrpSpPr>
        <p:grpSpPr>
          <a:xfrm>
            <a:off x="152280" y="133200"/>
            <a:ext cx="8839440" cy="2530800"/>
            <a:chOff x="152280" y="133200"/>
            <a:chExt cx="8839440" cy="2530800"/>
          </a:xfrm>
        </p:grpSpPr>
        <p:pic>
          <p:nvPicPr>
            <p:cNvPr id="45" name="대각선 방향의 모서리가 둥근 사각형 7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9440" cy="2530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50920" y="233280"/>
              <a:ext cx="8642160" cy="23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5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4F94B-20FE-4FEA-8181-89980DE548BF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6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89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91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BD90-8752-47C9-97BA-A80E2ADC3284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직사각형 7"/>
          <p:cNvSpPr/>
          <p:nvPr/>
        </p:nvSpPr>
        <p:spPr>
          <a:xfrm>
            <a:off x="1000080" y="3267000"/>
            <a:ext cx="7407360" cy="972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11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9406-9BB4-434E-84AE-0AA8CAC9850A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ftr" idx="12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176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178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906CD-3832-441F-9577-5B39BA3616CD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21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23" name="직사각형 7"/>
          <p:cNvSpPr/>
          <p:nvPr/>
        </p:nvSpPr>
        <p:spPr>
          <a:xfrm>
            <a:off x="617400" y="216540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4" name="직사각형 8"/>
          <p:cNvSpPr/>
          <p:nvPr/>
        </p:nvSpPr>
        <p:spPr>
          <a:xfrm>
            <a:off x="4800600" y="2165400"/>
            <a:ext cx="374976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8640720" y="6515280"/>
            <a:ext cx="4651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A02E8-AF67-4F23-B869-63A62EAF91D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대각선 방향의 모서리가 둥근 사각형 6"/>
          <p:cNvGrpSpPr/>
          <p:nvPr/>
        </p:nvGrpSpPr>
        <p:grpSpPr>
          <a:xfrm>
            <a:off x="152280" y="133200"/>
            <a:ext cx="8832960" cy="6591600"/>
            <a:chOff x="152280" y="133200"/>
            <a:chExt cx="8832960" cy="6591600"/>
          </a:xfrm>
        </p:grpSpPr>
        <p:pic>
          <p:nvPicPr>
            <p:cNvPr id="267" name="대각선 방향의 모서리가 둥근 사각형 6" descr=""/>
            <p:cNvPicPr/>
            <p:nvPr/>
          </p:nvPicPr>
          <p:blipFill>
            <a:blip r:embed="rId3"/>
            <a:stretch/>
          </p:blipFill>
          <p:spPr>
            <a:xfrm>
              <a:off x="152280" y="133200"/>
              <a:ext cx="8832960" cy="6591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92040" y="374760"/>
              <a:ext cx="8356680" cy="611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새굴림"/>
              </a:endParaRPr>
            </a:p>
          </p:txBody>
        </p:sp>
      </p:grpSp>
      <p:sp>
        <p:nvSpPr>
          <p:cNvPr id="269" name="직사각형 7"/>
          <p:cNvSpPr/>
          <p:nvPr/>
        </p:nvSpPr>
        <p:spPr>
          <a:xfrm>
            <a:off x="588960" y="1424160"/>
            <a:ext cx="800100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9"/>
          </p:nvPr>
        </p:nvSpPr>
        <p:spPr>
          <a:xfrm>
            <a:off x="5562720" y="6400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20"/>
          </p:nvPr>
        </p:nvSpPr>
        <p:spPr>
          <a:xfrm>
            <a:off x="1294920" y="6400440"/>
            <a:ext cx="42116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21"/>
          </p:nvPr>
        </p:nvSpPr>
        <p:spPr>
          <a:xfrm>
            <a:off x="8638920" y="6515280"/>
            <a:ext cx="463320" cy="2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57FD9-278C-453F-8151-F18B3BA72F63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76a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직사각형 7"/>
          <p:cNvSpPr/>
          <p:nvPr/>
        </p:nvSpPr>
        <p:spPr>
          <a:xfrm>
            <a:off x="5057640" y="1057320"/>
            <a:ext cx="3748320" cy="9360"/>
          </a:xfrm>
          <a:prstGeom prst="rect">
            <a:avLst/>
          </a:prstGeom>
          <a:solidFill>
            <a:srgbClr val="72a376"/>
          </a:solidFill>
          <a:ln w="0">
            <a:noFill/>
          </a:ln>
          <a:effectLst>
            <a:outerShdw dist="12960" dir="54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5562720" y="651312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sldNum" idx="23"/>
          </p:nvPr>
        </p:nvSpPr>
        <p:spPr>
          <a:xfrm>
            <a:off x="8638920" y="651312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24248-0B71-4385-8B0C-4D2173D1FA38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ftr" idx="24"/>
          </p:nvPr>
        </p:nvSpPr>
        <p:spPr>
          <a:xfrm>
            <a:off x="1600200" y="651312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53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54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e7eacb"/>
                </a:solidFill>
                <a:latin typeface="Rockwell"/>
              </a:rPr>
              <a:t>Click to edit the title text format</a:t>
            </a:r>
            <a:endParaRPr b="0" lang="en-US" sz="4600" spc="-1" strike="noStrike">
              <a:solidFill>
                <a:srgbClr val="e7eacb"/>
              </a:solidFill>
              <a:latin typeface="Rockwel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1" marL="639720" indent="-228600">
              <a:buClr>
                <a:srgbClr val="b0ccb0"/>
              </a:buClr>
              <a:buSzPct val="90000"/>
              <a:buFont typeface="Rockwel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2" marL="822240" indent="-19044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3" marL="100476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4" marL="1187280" indent="-182520">
              <a:buClr>
                <a:srgbClr val="a8cdd7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5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lvl="6" marL="1187280" indent="-182520"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dt" idx="25"/>
          </p:nvPr>
        </p:nvSpPr>
        <p:spPr>
          <a:xfrm>
            <a:off x="5562720" y="6508440"/>
            <a:ext cx="3001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sldNum" idx="26"/>
          </p:nvPr>
        </p:nvSpPr>
        <p:spPr>
          <a:xfrm>
            <a:off x="8638920" y="6508440"/>
            <a:ext cx="4633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dfe0d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67591-8937-48D1-853A-C3694C2DA681}" type="slidenum">
              <a:rPr b="0" lang="en-US" sz="1600" spc="-1" strike="noStrike">
                <a:solidFill>
                  <a:srgbClr val="dfe0d4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7"/>
          </p:nvPr>
        </p:nvSpPr>
        <p:spPr>
          <a:xfrm>
            <a:off x="1600200" y="6508440"/>
            <a:ext cx="3906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새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Rectangle 2" descr=""/>
          <p:cNvPicPr/>
          <p:nvPr/>
        </p:nvPicPr>
        <p:blipFill>
          <a:blip r:embed="rId1"/>
          <a:stretch/>
        </p:blipFill>
        <p:spPr>
          <a:xfrm>
            <a:off x="457200" y="378000"/>
            <a:ext cx="8418600" cy="223200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2133360" y="2819520"/>
            <a:ext cx="65595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246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조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김효나 김규빈 정나훈 신동현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제목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28760" y="357120"/>
            <a:ext cx="82296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 나라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부터 공업발전과 수출증대를 위한 전략산업으로 육성되어 지속적인 발전을 이룩해 왔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의 산업동향은 주요 원자재인 원목의 확보와 건축경기에 따라 크게 좌우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최근 자원보유국의 자원보호 및 공업화 정책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석유에너지에 대한 대체 자원으로서 목재의 재평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자원의 지역 편재 등으로 인하여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수요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％ 이상을 외재에 의존하고 있는 우리 나라로서는 앞으로 지속적이고 안정적인 목재 수급이 중요한 과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공업의 대표적인 산업으로 여겨지던 합판공업이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이후 지속적으로 쇠퇴하면서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보드류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나 악기 등의 제조업과 함께 목제품의 종합적인 수요처인 목조주택의 비중이 증가하고 있는 실정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2400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우리 나라 목재공업은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1909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 통감부 영림서에 의하여 관영제재사업으로 시작되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당시의 관영제재사업은 신의주 영림서의 경영하에 주로 군수용을 비롯한 연초포장상자 또는 침목 등의 공급을 맡았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이전의 목재공업은 오늘날의 기준으로 보면 대체로 원시적인 제재형태를 벗어나지 못한 소규모의 수공업형태를 이루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광복 후 무질서한 산림남벌로 인한 원목공급량의 격증과 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6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25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전쟁 이후 주택을 비롯한 각종 산재 복구사업 및 인구증가에 힘입어 제재업이 급속히 성장하여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1960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년대 초까지 목재공업이 주류를 이루어 왔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은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동명목재와 일부 영세업체에 의하여 생산되기 시작하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58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 이후 국내 건축경기의 상승 및 수출수요증가에 힘입어 생산능력도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5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8,00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에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에는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억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로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5.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배 증가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64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부터 합판공업은 수출특화산업으로 지정되어 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생산과 수출에 있어서 연평균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％ 이상의 급속한 신장세를 보였으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1973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까지 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위의 합판수출국으로 성장하였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그러나 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년대에 들어 합판공업은 원가상승과 인도네시아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말레이시아 등 동남아의 후발 합판생산국들이 저렴한 가격을 바탕으로 세계합판시장에 본격적으로 진출함으로써 수출의 대부분을 가공도가 낮은 보통합판에 의존하고 있는 국산합판의 수출이 급격히 감소하게 되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목재산업구조의 변화는 양질의 원목가격 상승 및 해외 적정 원목 확보의 어려움과 해외 산림자원국의 원목생산 및 수출 금지와 자국 생산 목가공재의 수출전략화 정책 등으로 국내 목재산업은 수출에서 내수용 생산으로 전환되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5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우리 나라 목재공업 관련 업체수는 국내 목제품 제조업체의 수출경쟁력을 상실한 상태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들 목재산업이 안고 있는 문제점을 요약해 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업계의 재무구조 취약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후반부터 통나무집과 경골 목조주택이 보급되기 시작하면서 목조주택을 비롯한 목조건축산업은 목제품의 대량 공급처로서 가능성이 매우 높아 국민의 관심을 끌고 있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초부터 전성기를 맞아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까지 국민경제에 크게 기여해왔던 목재공업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8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9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에 들어 상당히 위축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공업은 소요 원목을 전량 수입에 의존하는 구조적인 취약점을 가지고 있어  문제가 심각하였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의 높은 해외의존도 및 원목확보난의 심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원목 산지국의 합판수출국화에 따른 국제경제력 약화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수출시장의 협소 및 편중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낮은 외화가득률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업계의 재무구조 취약 등을 들 수 있다</a:t>
            </a:r>
            <a:r>
              <a:rPr b="0" lang="en-US" sz="32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Rockwell"/>
              </a:rPr>
              <a:t>이러한 문제점을 해결하지 못한다면 결국 목재산업의 사양화는 불가피할 것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Rectangle 2" descr=""/>
          <p:cNvPicPr/>
          <p:nvPr/>
        </p:nvPicPr>
        <p:blipFill>
          <a:blip r:embed="rId1"/>
          <a:stretch/>
        </p:blipFill>
        <p:spPr>
          <a:xfrm>
            <a:off x="450720" y="-8568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5712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첫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와 업계가 공동으로 해외임지확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산림개발을 위한 조사 및 외교를 강화하여야 할 것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둘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재의 수율증대를 위한 기술개발 및 국산 소경목을 이용한 목재제품 개발과 고급가공합판 중심으로의 생산체제 전환 등이 시급히 요청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셋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생산시설을 합리적으로 조정하여 과당경쟁을 배제함으로써 생산협력체제를 구축하고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가구산업 등에서 다품종 소량생산 체계를 갖추어 경쟁력을 확보하는 것이 필요하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넷째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장기적인 목재자급기반의 구축을 위하여 국내산림자원의 효율적 경영 및 국산재의 고부가가치 이용기술 개발이 요구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Rectangle 2" descr=""/>
          <p:cNvPicPr/>
          <p:nvPr/>
        </p:nvPicPr>
        <p:blipFill>
          <a:blip r:embed="rId1"/>
          <a:stretch/>
        </p:blipFill>
        <p:spPr>
          <a:xfrm>
            <a:off x="450720" y="249120"/>
            <a:ext cx="8541000" cy="11653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9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우리 나라에서 산림녹화를 통하여 조성된 조림지에서 생산되는 간벌재를 비롯한 중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소경제의 생산잠재력이 증가하고 있고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최근 진행되고 있는 생명의 숲가꾸기 사업 등의 본격적인 추진과 관련하여 국산재의 자급률이 차츰 높아질 것으로 기대되고 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Rectangle 2" descr=""/>
          <p:cNvPicPr/>
          <p:nvPr/>
        </p:nvPicPr>
        <p:blipFill>
          <a:blip r:embed="rId1"/>
          <a:stretch/>
        </p:blipFill>
        <p:spPr>
          <a:xfrm>
            <a:off x="450720" y="-6480"/>
            <a:ext cx="8455320" cy="14335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468360" y="1413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우리나라의 토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65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가 산림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지만 목재 자급률은 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미만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국산재의 지속적 지급이 필요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최근 환경에 대한 관심의 증가 및 탄소 배출권 등으로 목재산업과 산림업이 새롭게 관심을 받고 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산림청을 비롯한 산림조합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목재업계 관계자들이 최근 ‘목재의 지속 가능한 이용에 관한 법률안’을 대표 발의한 황영철 의원을 방문해 목재산업 진흥을 위한 발전방안을 논의했다</a:t>
            </a: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 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이 자리에서 ‘목재의 지속가능한 이용에 관한 법률’이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목재산업 발전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에 초석이 될 것이라며 목조건축을 포함한 목재산업은 다른 분야에 비해 고용창출 효과가 크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국산 목재를 이용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할 경우 </a:t>
            </a:r>
            <a:r>
              <a:rPr b="0" lang="ko-KR" sz="3200" spc="-1" strike="noStrike">
                <a:solidFill>
                  <a:srgbClr val="00b0f0"/>
                </a:solidFill>
                <a:latin typeface="새굴림"/>
                <a:ea typeface="새굴림"/>
              </a:rPr>
              <a:t>탄소배출권을 확보</a:t>
            </a:r>
            <a:r>
              <a:rPr b="0" lang="ko-KR" sz="3200" spc="-1" strike="noStrike">
                <a:solidFill>
                  <a:srgbClr val="ffffff"/>
                </a:solidFill>
                <a:latin typeface="새굴림"/>
                <a:ea typeface="새굴림"/>
              </a:rPr>
              <a:t>하는 등 전망이 밝은 분야임을 강조했다</a:t>
            </a: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10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제목 1" descr=""/>
          <p:cNvPicPr/>
          <p:nvPr/>
        </p:nvPicPr>
        <p:blipFill>
          <a:blip r:embed="rId1"/>
          <a:stretch/>
        </p:blipFill>
        <p:spPr>
          <a:xfrm>
            <a:off x="450720" y="-96840"/>
            <a:ext cx="8491680" cy="1504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열악한 국내 목재산업을 획기적으로 키우기 위해 산림청은 지난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월 국산목재 이용확대와 목재산업기반 구축 등을 골자로 하는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목재산업진흥 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개년 종합계획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을 발표했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 계획은 </a:t>
            </a:r>
            <a:r>
              <a:rPr b="0" lang="ko-KR" sz="4000" spc="-1" strike="noStrike">
                <a:solidFill>
                  <a:srgbClr val="00b0f0"/>
                </a:solidFill>
                <a:latin typeface="Rockwell"/>
              </a:rPr>
              <a:t>우리 정부가 사실상 최초로 마련한 목재산업 관련 마스터플랜</a:t>
            </a:r>
            <a:r>
              <a:rPr b="0" lang="ko-KR" sz="4000" spc="-1" strike="noStrike">
                <a:solidFill>
                  <a:srgbClr val="ffffff"/>
                </a:solidFill>
                <a:latin typeface="Rockwell"/>
              </a:rPr>
              <a:t>이다</a:t>
            </a:r>
            <a:r>
              <a:rPr b="0" lang="en-US" sz="40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Rectangle 8" descr=""/>
          <p:cNvPicPr/>
          <p:nvPr/>
        </p:nvPicPr>
        <p:blipFill>
          <a:blip r:embed="rId1"/>
          <a:stretch/>
        </p:blipFill>
        <p:spPr>
          <a:xfrm>
            <a:off x="450720" y="-12600"/>
            <a:ext cx="8455320" cy="7873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제안이유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기후변화 협약 이행을 위한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탄소저감 방안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의 하나로 목재이용을 증진하고 국제적인 목재자원 보호정책에 대응하기 위해 국산재의 지속적인 공급확대가 절실히 요구되고 있음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현행법은 일부에서 품질관리 및 인증제도를 시행할 수 있도록 규정하고 있을 뿐 목재이용에 대한 인식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다음 세대를 위한 전통 목재문화 계승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교육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품질향상을 통한 산업경쟁력 강화 등 목재이용 전반에 관한 적극적 홍보 및 체계적인 지원 기반이 부족한 실정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에 정확한 목재이용 실태조사를 통하여 </a:t>
            </a:r>
            <a:r>
              <a:rPr b="0" lang="ko-KR" sz="2800" spc="-1" strike="noStrike">
                <a:solidFill>
                  <a:srgbClr val="00b0f0"/>
                </a:solidFill>
                <a:latin typeface="Rockwell"/>
              </a:rPr>
              <a:t>목재문화 진흥 및 목재이용 활성화 사업을 체계적으로 지원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함으로써 국민의 삶의 질 향상에 기여하고 목재의 지속가능한 이용을 도모하려는 것임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455320" cy="79236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500040" y="1314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'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우리에겐 비중 있게 와닿지 않는 산업분야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한국전쟁을 겪으며 벌거숭이가 됐던 산야를 녹화하기 위해 뒤도 돌아보지 않고 달려만 왔을 뿐 나무를 본격적으로 활용하는데 대한 고민이 적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따라서 국내 목재산업의 기반은 아직까지 미미한 수준에 머물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하지만 최근 목재생산국들의 원목수출금지 조치 등 목재자원주권화 경향과 지구온난화 등으로 목재의 경제적 중요성이 높아지면서 국내 목재산업 인프라를 키워야 한다는 목소리가 높아지고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정부도 국내 산림자원량이 성숙단계에 왔다고 판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산업 활성화를 통해 기후변화 및 자유무역협정 등에 적극 대처해 나간다는 방침이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Rectangle 2" descr=""/>
          <p:cNvPicPr/>
          <p:nvPr/>
        </p:nvPicPr>
        <p:blipFill>
          <a:blip r:embed="rId1"/>
          <a:stretch/>
        </p:blipFill>
        <p:spPr>
          <a:xfrm>
            <a:off x="450720" y="-66600"/>
            <a:ext cx="8541000" cy="9874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457200" y="907560"/>
            <a:ext cx="829152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우리나라는 지난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960~19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대 목재산업의 비중이 상대적으로 컸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당시에는 정부 차원에서 수출장려와 고용창출을 위해 목재 가공무역을 활성화하면서 수출 효자상품으로 각광받기도 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그러나 제조업 전반이 발전하지 못한 시절이어서 목재산업이 경제에서 차지하는 비중만 컸을 뿐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이마저도 이후 개발도상국들의 원목수출 금지정책과 건설경기불황 및 수입목재가격 상승이 맞물리면서 국내 목재산업은 침체기로 접어들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기에 숲가꾸기와 조림 등 산림보호와 육성에 초점이 맞춰진 산림정책도 목재산업 경쟁력 약화의 원인이 됐다는 분석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산림청에 따르면 국내에서는 목재가공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제지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가구 등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개 부문으로 분류되는 목재 산업계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09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현재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3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개 관련업체가 있으며 종사자는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8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만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00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여명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간 생산액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4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원 규모로 국내 제조업 전체 생산액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(1122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987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억원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.1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그치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국내 전체 목제품에 사용되는 국산 원목은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2010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년 말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3.5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머물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특히 국산 목제품의 양은 국내 전체 목재 수요량의 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16%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에 불과하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Rectangle 2" descr=""/>
          <p:cNvPicPr/>
          <p:nvPr/>
        </p:nvPicPr>
        <p:blipFill>
          <a:blip r:embed="rId1"/>
          <a:stretch/>
        </p:blipFill>
        <p:spPr>
          <a:xfrm>
            <a:off x="390600" y="182520"/>
            <a:ext cx="8540640" cy="11653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456840" y="1483920"/>
            <a:ext cx="84358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상업용으로 쓰이는 목재는 그 목적에 따라서 여러 가지로 분류할 수 있는데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일반적으로 목재에는 통나무와 제재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製材木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이 포함된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Rockwell"/>
              </a:rPr>
              <a:t>목재의 종류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를 형상에 따라 분류하면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①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소재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보통 통나무라고 부르는 것의 총칭으로 아무런 가공을 하지 않거나 거칠게 가공한 목재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② 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제재목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：통나무 등 원목에 톱을 대어 가공한 것으로 크게 판재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각재류의 두 종류로 구분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③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합판과 단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섬유판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파티클보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1" lang="ko-KR" sz="2800" spc="-1" strike="noStrike">
                <a:solidFill>
                  <a:srgbClr val="ffffff"/>
                </a:solidFill>
                <a:latin typeface="Rockwell"/>
              </a:rPr>
              <a:t>＊</a:t>
            </a:r>
            <a:r>
              <a:rPr b="1" lang="en-US" sz="2800" spc="-1" strike="noStrike">
                <a:solidFill>
                  <a:srgbClr val="ffffff"/>
                </a:solidFill>
                <a:latin typeface="Rockwell"/>
              </a:rPr>
              <a:t>OSB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공학목재 등이 있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목재는 지구상 유일한 재생산 가능한 천연재료로서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인류가 살아가는 거의 모든 용도에 널리 이용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800" spc="-1" strike="noStrike">
                <a:solidFill>
                  <a:srgbClr val="ffffff"/>
                </a:solidFill>
                <a:latin typeface="Rockwell"/>
              </a:rPr>
              <a:t>오랫동안 한옥형태의 목조주택을 위주로 한 주거문화로 발전하여 왔다</a:t>
            </a: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..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Rockwel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9528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는 다른 재료에서 볼 수 없는 우수한 재료적 특성 때문에 여전히 우리 생활의 많은 부분에서 필수 재료로서 쓰이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오늘날 목재의 대표적인 용도를 살펴보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건축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가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포장상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차량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갱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침목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전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악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운동기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집성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연료 등에 이르기까지 매우 다양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를 활용하여 최근에 개발한 첨단 재료는 이전까지 사용되던 재료와는 판이한 새로운 개념의 재료가 사용되고 있거나 개발되고 있어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의 부가가치를 높이는 데 기여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와 관련한 산업활동은 넓은 의미에서 소재생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 및 임산제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유통 등을 포함한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노동집약적이고 수송비와 보관비 등이 큰 특징을 가지고 있으며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나 보드류 산업 등의 경우 초기 투자비용이 큰 장치산업적 특징을 가지고 있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  <a:p>
            <a:pPr marL="291960" indent="-291960">
              <a:lnSpc>
                <a:spcPct val="80000"/>
              </a:lnSpc>
              <a:buClr>
                <a:srgbClr val="72a376"/>
              </a:buClr>
              <a:buSzPct val="7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재공업은 제재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제품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합판 등 보드류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기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펄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종이 제조업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ko-KR" sz="2400" spc="-1" strike="noStrike">
                <a:solidFill>
                  <a:srgbClr val="ffffff"/>
                </a:solidFill>
                <a:latin typeface="Rockwell"/>
              </a:rPr>
              <a:t>목조주택 등의 산업활동을 총칭하는 것이다</a:t>
            </a:r>
            <a:r>
              <a:rPr b="0" lang="en-US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8T09:10:03Z</dcterms:created>
  <dc:creator>admin</dc:creator>
  <dc:description/>
  <dc:language>en-US</dc:language>
  <cp:lastModifiedBy>com</cp:lastModifiedBy>
  <dcterms:modified xsi:type="dcterms:W3CDTF">2012-05-22T03:36:57Z</dcterms:modified>
  <cp:revision>24</cp:revision>
  <dc:subject/>
  <dc:title>환경재료학 목재산업</dc:title>
</cp:coreProperties>
</file>