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6DD0F1-C05D-4C68-8268-D2D78B7A69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5D580D-F3A4-4872-A3FE-A1913282C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433846-CC81-4741-8AEA-C71D573544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203E0-04F4-4131-AA9C-60BC20421B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63AC5-14FE-46D6-A66F-57596779BF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C3EF95-0A21-4F74-840C-935E371274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082701-2FC5-467F-A5ED-A6B0943459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B815A5-AD14-4459-94FE-84CC5BC0F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CD0A1D-DB20-4BA4-9746-3A844E7E20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270185-E5D4-4BE8-8D84-2EFC7C604F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378B61-54BD-41E7-AE56-42D87936D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C13486-FF65-457E-9406-D10444927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372E2C-C945-494E-BC06-D6CD1587AE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DADE7-531E-49E6-8084-DFAD21AF6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572A64-7DE2-4C8C-841B-A8E2AC01FC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DE986-2BAB-4B04-BDFC-D08E717F1A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E449FF-4350-45A4-9C41-E8521F6086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9ADE429-973C-42DA-89E6-9D5351859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4FB2E9-3A6D-46F7-82DB-D88674BE1E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A069B3-C6BE-47B7-9F5F-0CB210408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4694F0-F615-4F39-9685-8385E22640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6A2503-6E6C-4E8A-83D2-037D4F13C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E4126F-4226-4533-AD6F-573C87163C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1440CF-59C5-4FF1-B129-3C93E8F35A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2575D-F368-413B-ACE5-F36B450FB30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929480-525F-4F30-80FF-9FC2D4D3930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1844640"/>
            <a:ext cx="784692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dfdef6"/>
                </a:solidFill>
                <a:latin typeface="굴림"/>
              </a:rPr>
              <a:t>도료의 종류</a:t>
            </a:r>
            <a:br>
              <a:rPr sz="4400"/>
            </a:br>
            <a:r>
              <a:rPr b="0" lang="en-US" sz="32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0" lang="zh-CN" sz="3200" spc="-1" strike="noStrike">
                <a:solidFill>
                  <a:srgbClr val="dfdef6"/>
                </a:solidFill>
                <a:latin typeface="굴림"/>
              </a:rPr>
              <a:t>특수도료</a:t>
            </a:r>
            <a:endParaRPr b="0" lang="en-US" sz="32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기를 제어하여 정보를 관리하고 안전을 보장해주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675"/>
              </a:spcBef>
              <a:buSzPct val="10281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성분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Symbol"/>
                <a:ea typeface="Symbol"/>
              </a:rPr>
              <a:t>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Fe</a:t>
            </a:r>
            <a:r>
              <a:rPr b="1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O</a:t>
            </a:r>
            <a:r>
              <a:rPr b="1" lang="ko-KR" sz="1800" spc="-1" strike="noStrike" baseline="-25000">
                <a:solidFill>
                  <a:srgbClr val="ffffff"/>
                </a:solidFill>
                <a:latin typeface="굴림"/>
              </a:rPr>
              <a:t>3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CrO</a:t>
            </a:r>
            <a:r>
              <a:rPr b="1" lang="ko-KR" sz="1800" spc="-1" strike="noStrike" baseline="-25000">
                <a:solidFill>
                  <a:srgbClr val="ffffff"/>
                </a:solidFill>
                <a:latin typeface="굴림"/>
              </a:rPr>
              <a:t>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Fe)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이 주성분인 금속성 분말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바인더 수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첨가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용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spcBef>
                <a:spcPts val="675"/>
              </a:spcBef>
              <a:buSzPct val="10281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테이프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오디오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비디오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컴퓨터 테이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디스크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하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프로피 디스크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카드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신용카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철도승차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기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속도로 통행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화카드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기시트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기드럼 등과 같은 자기기록 매체 분야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자성도료 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화합물의 열분해에 의한 불가역적인 색의 변화를 이용한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온도의 변화에 따라 색이 변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안료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특정온도에 따라 색의 변화가 뚜렷한 화합물이나 용융에 의해 상태가 변하는 화합물이 안료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안료로 코발트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니켈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동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크롬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망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납 등이 이용되며 사용되는 화합물의 성분 중에는 아민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암모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탄산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브롬산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수산기를 함유한 것이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식품의 안전 관리를 위해 많이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시온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가열이나 전자파 조사에 의한 도막 경화과정 중에 수백 마이크론 정도로 부풀어  입체감을 나타내주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미끄럼 방지 효과와 큐션성을 기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발포성 방화도료로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방화도료는 발포용원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착색원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바인더로 구성되며 방화성능 향상을 위해 인산을 주로 이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종이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섬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피혁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금속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합성수지 와 같은 소재에 사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발포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 및 라디오파 차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대전방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표면오염 방지에 사용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기기의 경량화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단순화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에너지 주파수 분포의 고밀도화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플라스틱 재료 이용의 확대 등이 이루어짐에 따라 더욱 효과적이고 종합적인 개념의 전자파 차폐기술이 요구되며 이 때문에 전자파차폐 도료가 주목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전자장비에 주로 사용되며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전기 장해방지용 포장재료 이용을 위한 연구가 진행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도전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81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유해가스의 발생을 동반하는 연소의 진행을 막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분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발포성 방화도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기재가 가연성인 경우 기재의 난연화가 목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비발포성 도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기재가 불연성인 경우 도막의 단열작용으로 기재의 열 노화를 방지하여 가연물로 인한 연소를 방지하는 것이 목적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제조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초산비닐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염화비닐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아크릴 등의 난연성 바인더에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3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산화 안티몬과 같은 난연조제물를 첨가하여 제조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완전 불연성도료는 무기질바인더에 무기질 안료를 배합시킨 것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화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의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제어를 통해 기술적으로 방음을 할 수 있도록 한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방음종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차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전달경로에 벽을 세워 음을 반사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차단하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흡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에너지를 흡수하여 소멸시키거나 작게 만드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방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원인을 억제 함에 의하여 음의 발생을 억제하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제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음의 어떠한 진동에 의해 발생되기에 진동을 차단하거나 흡수함에 의해 음의 방출을 감소시키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공장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교통기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확청장치나 악기연주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학교나 유치원에서의 어린이 소리 등을 제어하는데 사용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음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청강 등의 구조재에 손상을 입히는 녹을 방지하기 위해 사용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불소수지도료와 세라믹도료가 각광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1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년에서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0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년으로 도막수명을 연장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세라믹도료의 경우 세라믹 안료와 알키드수지 또는 염화고무로 구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청도료</a:t>
            </a:r>
            <a:endParaRPr b="0" lang="en-US" sz="28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/>
          </p:nvPr>
        </p:nvSpPr>
        <p:spPr>
          <a:xfrm>
            <a:off x="394920" y="98064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정의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배관을 통해 전달되는 진동에 의한 소음을 방지하기 위해 적용되는 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아스팔트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에폭시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프탈산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에멀션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염화비닐계 등이 주로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두꺼운 도막을 형성하기에 다량의 충전제가 첨가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석면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섬유 등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안료로 탄산칼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활석 등이 이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-304920"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용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빌딩의 수도관이나 가스관에 적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lnSpc>
                <a:spcPct val="120000"/>
              </a:lnSpc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차량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선박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자동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기계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건축 및 그 밖에 여러 분야에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 marL="304920" indent="0">
              <a:spcBef>
                <a:spcPts val="675"/>
              </a:spcBef>
              <a:buNone/>
              <a:tabLst>
                <a:tab algn="l" pos="0"/>
                <a:tab algn="l" pos="271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649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특수도료 </a:t>
            </a:r>
            <a:r>
              <a:rPr b="1" lang="en-US" sz="2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1" lang="zh-CN" sz="2800" spc="-1" strike="noStrike">
                <a:solidFill>
                  <a:srgbClr val="dfdef6"/>
                </a:solidFill>
                <a:latin typeface="굴림"/>
              </a:rPr>
              <a:t>방진도료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01T06:05:51Z</dcterms:created>
  <dc:creator>In</dc:creator>
  <dc:description/>
  <dc:language>en-US</dc:language>
  <cp:lastModifiedBy>Daniel Yang</cp:lastModifiedBy>
  <dcterms:modified xsi:type="dcterms:W3CDTF">2009-09-13T09:10:12Z</dcterms:modified>
  <cp:revision>69</cp:revision>
  <dc:subject/>
  <dc:title>목질재료학 및 실험</dc:title>
</cp:coreProperties>
</file>