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81E841-95A2-4604-B1A8-D477405F2D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25DE02-0415-47CE-953D-9D389A6E5B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E0B1351-6C43-4BAF-8921-01D7DA7B5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8F173A5-7D8A-41C1-9E06-C5F832E492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EE83AE-F95E-42A5-8014-7C5FB178DB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1C92F0-4E7A-4D40-86E2-E8505BB46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E44DEE-08B4-48D8-B115-661EC9509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DD6CBF-F420-4AA6-B4BC-1A4BDEB4E5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851EF2-C855-4F9E-A1B4-F4803A0640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0CDE36-10EE-4100-BE92-52953EA109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E4211-0101-47F9-B97B-07CB8F591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CA0CDE-363D-43BA-B76F-7A55A3E8E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9D61-AF39-4113-816B-83A54B5F3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1BC2E1-6255-4C6F-A836-22BC8019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D89DC1-BF9A-4D83-9F0D-2034376F09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1AB6AB-B1A7-4BDD-A20D-3057AD4C4E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1456A5-552E-451C-B483-B26E769324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78613DD-CC20-4098-A222-B22827074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B21E83-74A7-441E-A0CD-E4893024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1DAF20-48F1-4916-85BC-1507CF1F4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759E229-E7C1-4C15-8C2B-99833A8E8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C7A383-B36B-472F-947C-52A972BE95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BEEAC9-8195-441B-B24F-53B40412E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D6490-82B4-4AB1-B0D1-B2CF212296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0F9AB1-6031-4925-96EB-11FE120EB24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D81721-B628-41BD-BDBD-AB5200CCC921}" type="slidenum">
              <a:rPr b="0" lang="ko-KR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는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분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의 광택 등에 영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말은 미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3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g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안료는 수십억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~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백 억의 입자로 구성되어 있으며 표면적의 합은 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</a:t>
            </a:r>
            <a:r>
              <a:rPr b="0" lang="ko-KR" sz="1800" spc="-1" strike="noStrike" baseline="30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달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이나 감청같은 안료는 매우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며 황연 또는 광명단은 매우 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10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의 형상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명단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토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정질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감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군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호분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결정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상 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 파우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입자의 크기와 형상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 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물질과 반응하기 어려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산화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물질과 용이하게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안료는 흡착성이 있어 도료 중의 건조제를 흡착하여 건조성이 저하되거나 특정 전색제에 겔화되는 경우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활성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지 중에는 건성유나 알키드수지와 같이 유기산을 포함하고 있는 것이 있어 염기성 안료는 산성 전색제와 반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안료를 산성인 수지와 함께 도료화가 되면 저장 중에 점성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산가성인 수지를 사용하면 증점현상이 심하여 도료가 굳어져 사용이 불가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활성 및 표면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전색제에 잘 분산이 되었는가에 따라 도료 제조의 용이성을 결정하는 중요 인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은 안료입자의 습윤성에 의해 결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색제에 습윤이 되기 쉬운 안료가 분산성이 우수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카본블랙과 같은 비극성안료는 비극성 매체에 습윤되기 쉽고 산화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연과 같은 극성안료는 극성 액체에 쉽게 습윤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좋을수록 도료 중에 안료의 응집이 적게 일어나 침강이 발생되더라도 침강물을 섞으면 쉽게 분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이 클수록 도료의 유동성이 좋아지며 흡유량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분산이 나쁠 때 도막의 평활성과 광택이 저하되고 내후성에도 문제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분산성 및 습윤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정제 아마유에 첨가하면 페이스트상이 되는데 일정한 유동도를 가진 페이스트를 만드는데 소요되는 아미인유의 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c/100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그 안료의 흡유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은 유가 안료 표면에 둘러싸고 다시 안료입자 사이의 공간을 채우는데 필요한 유의 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입자가 미세할수록 흡유량은 증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단위중량당 비표면적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겉보기 비중이 적을수록 흡유량은 증가 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흡유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는 아연황과 같이 물에 약간 녹는 것도 있지만 대부분 물에 용해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물에 녹지 않는 것이 안료의 필수조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소량의 불순물을 다량 함유하고 있어 물에 불순물이 용해되는 경우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용성의 불순물을 다량 함유하고 있는 것은 안료로써 불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논는 불순물 함유의 허용량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5~1.5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규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나 유에는 무기 안료는 녹지 않지만 유기안료 중에는 녹는 것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40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용해성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티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 등의 화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산화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크롬산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인산염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좋고 유기용제에 강하며 값이 저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를 물에 녹지 않은 금속화합물의 형으로 바꾼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레이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녹지 않은 염료 그대로의 것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소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착색력이 좋지만 내광성과 내열성이 약하며 값이 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안료의 종류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백색안료는 공기 중에서는 백색이지만 굴절율이 적으므로 전색제와 섞으면 투명하게 되는 은폐력이 적은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의 증량제로 쓰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도도료에 특히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산바륨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ary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크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3.9~4.5);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녹지 않는 안정한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황산바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정석에 황산을 가해 생기는 침전물로서 성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같으나 입자가 아주 미세하기 때문에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ryt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흡유량이 크고 도료 중에서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Ca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석회석을 분쇄하여 제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유성도료에서는 거의 없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산에 쉽게 용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격이 저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에 가장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체질안료의 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침강성 탄산칼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생석회에 물을 가하고 탄산가스를 통하여 침전된 탄산칼슘의 분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미세하여 흡유량이 백아보다 크며 도료 중에 침전이 적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lay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규산 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카리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Lake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체질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alc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석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의 소광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화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성도료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석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거칠고 경도가 높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체질안료 중 가장 광의 굴절율이 낮아 유 중에서는 완전한 투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조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분쇄한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실리카 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Silica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소다 수용액에 산을 가하여 침전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01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도로 미세하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white carbo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침강방지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소광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벤토나이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benton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산알루미늄이 주성분으로 계면 활성제로 처리하여 용제 중에서 팽윤되도록 한 유기 벤토나이트는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의 증점제로 사용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무기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으로 착색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정 색상을 내기 위해서 다른 유색안료와 섞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 안료에 은폐력을 부여하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티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Titanium di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화학적으로 안정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저항성이 강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구조에 따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Rutil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을 화합물로 처리하여 광택내후성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Anatase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아화가 아주 심하지만 백색도는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화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Zinc oxid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구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락카와 수성도료에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높은 활성으로 산가가 높은 전색제를 사용하면 도료의 점도가 상승 또는 겔화되어 에나멜로 사용이 불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균성과 해양생물 부착방지 기능이 있어 방오용 도료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ithopon: Zn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Ba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에 불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에 침식되어 황화수소를 발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에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S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착색력이 우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백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lead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기성 탄산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장 긴 역사를 가진 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커 강한 도막을 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안티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antimony white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b2O3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5.6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로 많이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;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소수지도료에 사용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백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물 또는 용제 등에 녹지 않으며 색이 있는 분말을 말함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이나 용제에 녹으며 색이 있는 분말은 염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dyestuff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도료 중에 아주 미세한 입자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0.1~20</a:t>
            </a:r>
            <a:r>
              <a:rPr b="0" lang="ko-KR" sz="20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m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로 분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안료는 전색제와 함께 섞어 도료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인쇄잉크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그림물감 등을 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물체의 표면을 착색하거나 합성수지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고무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셀룰로오스 등에 혼합시켜 이를 착색하기 위해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6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염료는 주로 섬유제품의 착색에 사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7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무기안료 중에 체질안료 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(filler, extender pigments)</a:t>
            </a:r>
            <a:r>
              <a:rPr b="0" lang="ko-KR" sz="2000" spc="-1" strike="noStrike">
                <a:solidFill>
                  <a:srgbClr val="ffffff"/>
                </a:solidFill>
                <a:latin typeface="굴림"/>
              </a:rPr>
              <a:t>는 단독으로 백색분말이지만 도료 또는 도막 중에서는 착색력이 없고 무색 투명에 가까우며 다른 안료와 섞어서 중량제의 목적으로 사용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정의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카본블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arbon black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정형의 탄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분은 탄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80~9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3~0.9%)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0.1~10.5%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해 착색력과 은폐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중성으로 흡착성이 있어 도료 중에 건조제를 흡착하여 건조 중에 문제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의 보강제 또는 흑색안료로 주로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흑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Graphi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흑연을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의 하지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전성 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연필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리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극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n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사산화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3O4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성이 있고 특수잉크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정한 안료이지만 무기산에 녹고 가열하면 적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있어 내후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흑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yellow, lead chromat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크롬산납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b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황색부터 등적색까지의 결정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채도가 우수하나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습윤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강알칼리에 변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해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징크 크로메이트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chrom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용도가 방청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yellow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d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담황에서 등색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있으나 착색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강하고 산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침식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Lead cyanamide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CN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작아 침강이 생기지 않음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Titanium yellow (Titanium nickel yellow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i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NiO, S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물에 변색이 안됨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Strontium chromat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Sr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과 내수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금속 등에 대한 방청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하지도료의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황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01680" indent="-30168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철적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Iron oxide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 제이철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색은 적갈색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조건에 따라 적화에서 척흑까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과 은폐력이 우수하고 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대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에 안정하고 산 알칼리에 안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및 고무에 주로 사용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99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광명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Red lea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서 연단으로도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10~2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일산화 납을 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이지만 대기 중에 풍화하여 백화현상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흡유량이 적지만 활성이 강해 단단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청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축전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학유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원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-30168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동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uprous oxide, red copper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u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168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해중생물에 유독작용이 있어 독물로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주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ermillio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황화수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HgS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8.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매우 무거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은 등적색에서 농적색까지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열하면 승화하고 일광에 의해 흑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이온을 함유하고 있어 아연 또는 구리 등의 안료와 섞어 사용 못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admium Red (Selenium red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d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결정으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gS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양에 따라 등색에서 암적색의 색상을 얻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과 내광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공해안료이기 때문에 사용량이 줄고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적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감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Milori blue, prussian blue, lron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Fe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N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6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여 착색력과 흡유량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이 약해 고온에서 분해되어 적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에 매우 약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안료와 혼합하면 광이 퇴색하며 활성안료와 섞어 쓰면 색상에 얼룩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군청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Ultramarine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하나 약산에도 쉽게 분해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안정하고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작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규소분이 많고 알루미늄분이 적을수록 색상은 적색기를 그 반대면 청색기를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코발트블루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obalt blue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알루미늄산 코발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작고 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가로 특수한 목적에만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청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hrome green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연과 감청의 혼합물로 색상은 황연과 감청의 비율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은 우수하나 산에는 황연이 알칼리에는 감청이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화수소에 의해 변색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산화크롬그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Chrome oxide green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산화크롬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하나 착색력이 나쁘고 색상이 선명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과 알칼리에 변색이 안되고 경도가 높아 연마제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멘트 착색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요업용 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잉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수화산화크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Viridian, hydrated chromium oxide) 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r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2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아름다운 색상의 녹색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으로 가열하면 물을 방출하여 산화크롬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녹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green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ZnCr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 감청의 혼합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크롬녹보다 내구력이 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 및 은폐력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산에서 청색으로 알칼리에서 갈색으로 변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녹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anganess violet, mineral violet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MnP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7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좋으나 알칼리에 약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Cobalt violet deep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인산코발트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 및 내열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자색의 투명성안료로 그림물감에 많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자색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은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Aluminium powder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루미늄을 분쇄하여 스테아린산으로 표면 처리한 은색의 금속광택이 있고 입자가 크고 납작한 비늘모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eafing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료 건조 중에 은분이 표면에 떠서 편평하게 배열되는 성질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Non-leafing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의 은분은 도막내부에 평행하게 배열되어 매끄러운 금속광택을 지니게 되는 이러한 도료를 머타릭도료라 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택을 내고 광과 열을 잘 반사하고 내수 내광성이 우수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분페인트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금분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동분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Bronze powder)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동의 합금을 분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색을 띄며 합금성분에 따라 다양한 금색이 얻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가를 가진 비히클과 혼합하여 장시간 사용할 경우 침전과 변색이 발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1196640"/>
            <a:ext cx="8497800" cy="504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농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흡유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분산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열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약품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독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기절연성 등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질은 기본적으로 화학적 구조에 의해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차적으로 제조조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타의 물리적 조건에 따라 변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연말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dust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금속아연 분말로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960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년대 이 후 징크리치 페인트에 많이 사용되어 수요가 비약적으로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하고 비중이 높으며 구상의 분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법은 아연금속을 진공 중에 증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응고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아연이 철보다 이온화 경향이 커 철재에 도장되었을 경우 아연이 먼저 부식됨으로써 철을 부식으로부터 보호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dfdef6"/>
                </a:solidFill>
                <a:latin typeface="굴림"/>
              </a:rPr>
              <a:t>금속분말안료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크롬산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절한 활성이 있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피도물에 대해 알칼리성 환경에 저항성을 가진 불침수성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염기성 황산 납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5~30% PbS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0~85%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함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계 방청안료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아산화납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Lead sub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b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가 주성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강해 지방산과 반응하여 견고한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4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인산아연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Zinc phosphat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주성분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Zn(PO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∙nH</a:t>
            </a:r>
            <a:r>
              <a:rPr b="0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로 무독성 방청안료로 각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활성이 적어 저장안정성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나멜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수용성 및 수성도료에 사용 가능한 백색의 방청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MIO (micaceous iron oxide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모양의 산화제이철을 주성분인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외관은 회갈색의 금속광택을 보유하며 결정은 비늘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막 중에 입자가 수평으로 평행하게 여러 층이 배열되어 외부에서 침투되는 부식인자인 수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소 등을 차단하여 피도체를 보호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구력과 내식성을 장기간 유지하는 역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 차단효과도 좋아 도막의 조기 노화 방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화합물에서 이중결합을 가진 것은 이중결합의 전자 하나가 비교적 느슨한 결합을 하고 있어 외부의 빛을 받으면 그 자극에너지에 의해 방출되는 형광을 발하게 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기염료 중에 형광을 내는 것을 적당한 합성수지에 고용체하여 염착시킨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형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계의 형광물질이 자외선에서 가시광선에 이르는 일정 파장을 가진 광에너지를 받으면 장시간 동안 잔광을 발하는 안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외선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등 등의 광을 받으면 어두운 곳에서 발광하는 것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명광의 강도와 조사시간과 잔광과는 깊은 관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제조는 황화아연 등의 중금속염 또는 알칼리토류 금속의 황화물을 고순도화하여 여기에 미량의 금속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Cu, Ag, Bi, Pb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을 부활제로 가하여 고온에서 장시간 가열하여 결정으로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방사선 동위원소를 첨가하여 외부의 자극 없이 자기 스스로 발광안료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a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CaSr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담청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녹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Mn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Ag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CdS/Cu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등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, ZnS/Bi 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적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광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조 진주의 소재로부터 시작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특유의 부드러운 광택으로 입술연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화장품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자동차 등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천연 펄과 합성 펄안료로 구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Natural pearl essence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기비늘이라 불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늘과 껍질에서 추출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guanine/hypoxanthin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혼합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모양은 판상과 침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이 낮아 침강하지 않는 단점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합성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산화물 피복운모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운모의 얇은 조각에 산화티탄을 아주 얇게 도포한 운모티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이 큰 이산화티탄층과 굴절율이 낮은 운모 및 전색제의 경계면에서 반사한 광이 펄 광택을 보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도막 두께를 변화시켜 은색에서 간섭색을 나타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의 입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표면의 평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산화티탄의 피복기술 등으로 펄광택의 강약을 마음대로 조절할 수 있는 것이 가장 큰 장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운모티탄의 표면에 유색안료를 도포한 착색된 펄안료도 있고 다른 색상의 안료를 도포하여 이색효과를 내는 제품도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화철 피복운무는 황금색에서 동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와인색 등의 제품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Bismuth oxychloride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는 저가라는 장점이 있으며 은은한 광택으로 무독성이므로 화장품 등에 많이 응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기성 탄산납은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독성과 내약품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안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–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Pearl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안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개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무기안료에 비해 은폐력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유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밝은 색상이 많고 착색력이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염료는 물에 용해되나 안료는 물에 불용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발색단으로 아조기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-N=N-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를 가진 아조계 안료와 다환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산성 및 염기성 염료계로 구분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Hansa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알칼리성이 있으나 내용제성이 나빠 고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에서 변색이 되며 용제에 의해 번지는 경향이 있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Benzidine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Hansa yellow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에 비해 떨어지나 화학적으로 안정해 내용제성을 보유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Permanent yellow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우수한 내광성과 내용제성으로 유명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/>
          </p:nvPr>
        </p:nvSpPr>
        <p:spPr>
          <a:xfrm>
            <a:off x="395280" y="907920"/>
            <a:ext cx="856944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499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Toluidine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좋으나 백색과 혼용했을 때 변색되며 내약품성은 좋으나 내용제성이 나빠 변색과 색번짐의 단점을 보유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Lake Red C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용제성이 좋고 색이 선명하고 내열성이 우수하여 잉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플라스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무 등에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Watching red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이 선명하고 각종 내성이 좋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hinacridone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광성이 아주 우수하고 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용제에도 내성이 강한 우수한 안료로 열안정성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60</a:t>
            </a:r>
            <a:r>
              <a:rPr b="0" lang="ko-KR" sz="1800" spc="-1" strike="noStrike">
                <a:solidFill>
                  <a:srgbClr val="ffffff"/>
                </a:solidFill>
                <a:latin typeface="Arial"/>
                <a:ea typeface="Arial"/>
              </a:rPr>
              <a:t>°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C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 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청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정형에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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형으로 구분되며 무결정형은 열과 용제에 약해 사용되지 않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성능이 아주 우수해 이상적인 안료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499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녹색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45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u-phthalocyanine green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 type="title"/>
          </p:nvPr>
        </p:nvSpPr>
        <p:spPr>
          <a:xfrm>
            <a:off x="456840" y="115920"/>
            <a:ext cx="821844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유기안료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빛의 성질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전자파의 일종이며 육안으로 느낄 수 있는 것을 가시광선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파장의 범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400~700nm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태양광선이 닿으면 물체의 표면에서 반사되는 부분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정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과 흡수되는 부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물체에 투과되어 다시 밖으로 나오는 부분으로 구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675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적색안료에 의한 빛의 반사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굴절 및 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광은 모든 파장범위 색광원의 혼합광으로 적색안료에 닿았을 경우 일부는 표면에 반사되고 나머지는 굴절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된 빛은 백색광과 거의 같고 반사되는 비율은 안료의 굴절율과 전색제 굴절율의 비가 클수록 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된 빛은 입자 내를 투과해 가는 동안 적색 외의 빛은 점차 흡수되나 일부는 입자 내에서 반사되고 나머지는 입자 밖으로 굴절되어 나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 때 빛은 비교적 적색기가 많은 광선이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투과광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다른 입자에 닿아 동일한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반복하여 투과된 빛은 순도 높은 적색이 되어 눈으로 들어옴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결과적으로 안료는 백색광을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을 통하여 일정 파장 범위의 빛을 흡수하므로 투과빛으로서 그 보색과 백색광이 혼합되어 눈에 느끼게 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빛의 흡수가 매우 작고 거의 반사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만을 반복하여 우리 눈에 백색을 감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에 대한 빛의 선택적인 흡수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과는 본질적으로 그 화학구조에 기인하며 분자를 구성하는 원자의 상태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색은 공기 중에 분말상태 색과 전색제와 혼합 시 색이 약간 틀리는데 이는 전색제 자체의 굴절율이 안료 자체의 굴절에 영향을 주기 때문 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조색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험 후 안료의 혼합비를 바꾸어 조색하는 방법을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CCM (computer color matching)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법에 의해 조색이 용이하나 최종 조색은 경험에 의해 시각적으로 결정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색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의 효과를 말함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백색의 경우에는 흑색이나 군청 등과 섞어 전색제에 분산할 때 혼합물의 색상을 희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흑색을 포함한 유색안료는 희게되지 않게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착색력이 큰 안료일수록 다른 안료와 혼합하여 혼합색을 만들 때 소량으로 가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가 미세할수록 착색력이 증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착색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Tinting strength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를 도료에 사용할 때 불투명도 즉 소지면에 덮어 보이지 않게 하는 능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불투명도는 안료의 광반사와 흡수의 크기에 따라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굴절율이 클수록 입자 표면에서 반사되는 광이 많아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백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을 거의 흡수하지 않으므로 은폐력은 주로 광의 반사율로서 결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반사율은 굴절율의 대소로 결정되므로 안료의 굴절율과 전색제의 굴절율은 차이가 클수록 은폐력이 증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착색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굴절율의 대소뿐만 아니라 안료의 광 흡수 정도에 따라 좌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같은 종류의 안료이더라도 입자가 미세할수록 은폐력은 상승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입자의 크기가 광의 파장 정도로 작게 된다면 반대로 은폐력은 저하되고 투명도는 상승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은폐력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hiding power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5280" y="907560"/>
            <a:ext cx="8569440" cy="5689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가 일광에 노출되면 변색하던지 퇴색하는 경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태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무기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변색이 잘 일어나지 않아 오랫동안 폭로하게 되면 흑변현상 발생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15000"/>
              </a:lnSpc>
              <a:spcBef>
                <a:spcPts val="56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유기안료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일반적으로 과에 의해 퇴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ko-KR" sz="3600" spc="-1" strike="noStrike">
                <a:solidFill>
                  <a:srgbClr val="dfdef6"/>
                </a:solidFill>
                <a:latin typeface="굴림"/>
              </a:rPr>
              <a:t>내광성 </a:t>
            </a:r>
            <a:r>
              <a:rPr b="1" lang="ko-KR" sz="2800" spc="-1" strike="noStrike">
                <a:solidFill>
                  <a:srgbClr val="dfdef6"/>
                </a:solidFill>
                <a:latin typeface="굴림"/>
              </a:rPr>
              <a:t>(Light fastness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5280" y="1268280"/>
            <a:ext cx="8569440" cy="5329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15000"/>
              </a:lnSpc>
              <a:spcBef>
                <a:spcPts val="624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비중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진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)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단위용적당 안료의 중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겉보기 비중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입자 사이의 공간을 포함한 단위용적당 안료의 중량으로 안료입자가 미세할수록 부피가 많아지게 되어 겉보기 비중은 감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안료의 형상과 크기에 따라 겉보기 비중은 차이 발생양광선 중의 자외선에 의한 작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15000"/>
              </a:lnSpc>
              <a:spcBef>
                <a:spcPts val="561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6840" y="115560"/>
            <a:ext cx="8218440" cy="108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성질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비중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specific gravity)/</a:t>
            </a:r>
            <a:br>
              <a:rPr sz="2800"/>
            </a:b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겉보기 비중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(apparent density)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37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21Z</dcterms:modified>
  <cp:revision>77</cp:revision>
  <dc:subject/>
  <dc:title>목질재료학 및 실험</dc:title>
</cp:coreProperties>
</file>