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312A5-0DC5-4ECA-95FE-EAB69F715A42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3A84-57AA-4824-A909-1FCD55340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EE52-C10B-4495-9884-4864087A1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3FA420-E794-44B7-A8B2-435C5CC34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5D73A6-BBF8-4EF9-A840-55C5A2512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E36C10-81E0-466B-8F3F-4A96BB2A7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87762F-170A-4E43-84E8-1C962113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0BED37-17E1-48EF-B828-3D126B85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BEAC0C-6D5C-4F6A-A891-9CC35142B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99DDBB-58A5-46A1-8C96-568E9CF38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6C4029-B7AA-4389-AD7D-06AF5E67A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5D049B-7CBE-405C-9363-389080DA2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D755B0-2187-4329-81ED-2DD555C32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2F81-E8C9-4E8E-BAD4-69BC5C9A9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A4CF0E-8DB6-4E1A-A44C-326DDFA82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1BC567-C775-4191-9B5C-4F00D6229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F791D2-CA0F-4FAA-A405-7CB886248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EA6A3B-539D-4420-B8C9-2BDDCDFE9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AC6E02-DF2C-461D-A901-C9E9C608D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90DD38-6BBB-4388-AD11-A5BCFF62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56F940-8D5E-421F-9B02-7B919AA6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9E1420-B24E-443E-8383-5F5F8031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BB25B8-4D89-4A46-A235-3EA9C5AAF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31F81E-3E9D-4523-8758-03C898EBA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5D07-E140-4FB1-AC52-22874F663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4E5DCF-637D-45B2-B48C-B57AEC02C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5E3147-0FDB-4CE0-BF48-552344A47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72B14D-656C-4E21-BC1A-AAA7B6FE9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A0CD26-FBC9-472E-9209-A001FB15A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00EA5A-AC2C-4868-A734-824C3DD16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B0E29F-D1D0-40AF-877C-136A73B44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25147F-B420-4737-9F95-F31F610D6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4846E3-3C2F-4CC5-8C94-0FC804D4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DBC283-FA76-4FA1-966A-F57485B9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05BDCA-30C7-44F8-8881-EE803E79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A358F-A61C-4F42-B756-0C6775782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46D8A0-717C-4A88-948A-0428A5737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A9EEF7-800B-4331-A7C9-FCC8653D4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2D887E-3FC1-4ABC-8BD3-03AE68453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D69C0B-E37E-473F-9793-AF023B886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ABA258-76F7-4358-A1A3-77BADF5C1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D0960D-E42B-45D4-948D-C86CD33EE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5A22F4-A814-4EAB-9C3E-3DB819389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284CCB-8EA5-4CED-9434-7F6508FF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4BD679-A424-491E-872D-ECB970008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3762BF-5E11-4978-9799-2FAB6D56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78AD7-09A4-499A-A1AF-22FF1878B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EDC6F7-29E7-4708-A33D-18652020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B3D461-B879-4170-8308-3E8BC7A6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149382-2BE5-4FB9-B226-DC36378B7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DBC58A-1671-4208-86FE-6DD0B86D6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1F9FA2-6B77-438F-994E-238622F51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5B1198E-BFFC-45A4-BAEE-4F9306D1F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EC123B7-47A4-4F9C-AA24-FD27E160B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E6D004D-13E9-4333-BEA7-B10D3482D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E17902E-DEB0-4C2C-B2F9-DBFC5852D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2AAADA0-33A3-482E-B6EF-B8342DBC3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DA423-4EF1-4FF7-9CDC-B7294BC58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FA8BA4B-174F-406C-BE30-F3E750D58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8AF88DB-D855-45E0-8338-5752BD4C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C1D1040-3D22-43D1-B6AA-CE676227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B7A9049-3CF6-4C44-81A0-4E4CFBF4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4DA3A08-7CB4-4B5F-875C-B88E2DE58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5ACDACC-FD47-427F-86B5-35E34F398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EC88A02-8556-41B6-9235-359CDACC6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64BE3-F057-4DFC-810E-064FA1F05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E5C05-A334-42BC-8293-FE9FFE363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4C42B-75D5-4B7D-8FF0-8DA5E62A7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55CEA-195E-41FB-A68C-7022B1BF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A4EE-3BBD-4C1D-9B47-BE043A5E7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E11E5-8E89-4311-B2D3-50D89994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55434-0F6E-4474-A2B7-5E253B91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38E62-B304-4DE1-AD78-567B73664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92A32-2484-404E-8190-B4AFAB466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6956D-3EB8-48E8-98FC-5B45C4DC4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867F0-4553-486C-A198-7F283F381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4B3B8-A024-4FB2-AA77-445AB37D8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5BECE-DAEF-47FE-9E8D-D97CFCD09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19431-7646-4B92-A96F-F178D43FF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D4469-AFE7-4124-9F0F-ADD537294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F540-7A3C-43CE-A8A1-37F6FDFFB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C07D9-63AA-4346-BE50-0A62D2FA6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261E3-78D1-4A75-A38E-A80C30AD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96C38-B8C8-459C-AA87-F66CDB33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AB2F9-8A24-4ADA-AED0-A768B02F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E420C-4DE4-4F0F-AB8B-7FADE41BA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1DAEE-F4F7-40E2-83A9-466E84BC0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7FB65-EF7F-4547-B49C-3173C58A1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FD8DB-1EDE-45EE-8C04-B175B51C1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B6C35-945A-465A-A9F4-7E9F5E892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7BD3C-8552-4A9E-B58D-0AA53DE81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081C-D121-419E-B74A-152598A99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C4C08-7251-42BC-A072-35AC84D25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62CBE-3ABB-43FD-B1A6-621472F6F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04557-2EEB-47F0-AEA6-375FBC040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0E95E-95DB-4385-9D50-E7898E27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A81D1-21EE-4E43-A489-6907EDE9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28FC0-06D8-401E-8C76-06E91234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C2572-C77D-4858-AADC-5C9EC98F6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34462-E2E6-4B09-887B-9B35B0AF1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86127-209D-4665-9F7B-8ECEA715B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9C134-8E90-4B96-84A9-8C09A0450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D4B9-5A6E-4D7B-8CD6-CC0B8C347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C1B88-A687-4EC8-AE2B-40A7DDBCD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FB5FA-9D1D-4989-B8C3-7FB8B1E1D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3DE31-7A80-4DF7-85D1-0E61817B4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0B750-0A1A-4576-B086-7888B9DA5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275E9-7AE2-47E6-AC65-5E68D0EA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3DB43-6C89-432A-BF02-F44BC463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61DE9-D6EE-4622-B04A-6D4ED9AF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63632-7A9B-46BD-AE36-4C3B3302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0F244-3A2A-4217-A67C-CE90C3631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D20E4-F565-4A49-AEC4-2B33077C0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2D1B-E06B-45A1-8E76-EA289C201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A09EA-8BB2-40EC-A7A3-EEF02880A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4F8C1C-33E0-481E-A71D-CECA323F1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86E670-E21C-467A-A732-480BA199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77A168-DF3C-4913-892F-6158B44DD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D214F9-18DA-4719-95CA-71FA04199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020712-5A72-4B9A-A591-243991087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B430B2-49DE-4C78-8925-C48FDBEEC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2348B0-EEAD-4994-804A-6B6FC108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0C8EEF-D607-463C-A8E9-3A14DD73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BA3CC0-0580-4FA3-B867-534824AB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F39C-FFB2-485C-9FA0-F456892D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422F6B-887E-4B89-8A7A-0AA741757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8DEDA9-AC6A-4F76-AD9C-5B41F8482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A2C16A-EF16-40DC-99E3-6BDA54A0F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2F647C-D7B5-4491-9FCF-0B1D214C5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9F545-2E64-4495-AE77-6104C763C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E207A2-4FAD-4F5E-9A39-85778DE16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1C6030-AE01-4B4B-A6A3-65D69D9E9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DE125-7463-4BA9-9180-7C4B8CEFC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8F4C46-5A41-4CBF-978C-49C63AA04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D1E9A-FF0B-42D7-8D45-1735F515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B93D-9E1A-48AD-A5A7-C8AC9215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D5900-ED57-4852-A807-C430F633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16A6A-63B8-4E07-8F11-7510BE28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8FCD83-2A35-4CA2-8348-29974DE62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B94F87-C540-4455-872B-8C12B918C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2DD53-2716-402C-A282-0BB3C7D85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460913-C187-40A0-914B-171FE1789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1A8287-11B6-498C-A07B-202547BB7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DC9116-A2C7-457D-B8ED-F18685DE2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6D1D4A-FCA0-44EB-9D3F-897AED5A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E96F6E-0E29-444E-8362-F77F01B92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D1F8-46FA-445A-A432-74BB7ADF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F1A3E0-3875-4175-B3CC-F3F557D69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0810D1-2315-4398-9B8D-971E7B73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4F617D-4080-4898-B13C-57A258F1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D50C0-709A-4C38-BD3F-2F50BFD4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2BBC73-56B2-4FC5-90B9-E5A55DCC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06D8DE-9CED-400F-864F-40FE723D7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D4D93-6221-4136-A8F6-350553B97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384C19-151F-4EF0-A6E0-A91416A75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3C9AE6-3E52-48FD-8B1F-FA3430808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FA098F-E312-4B3F-B588-53CC66937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331CB-B894-416E-8335-AFCFDC2795E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1DF5E-DDAC-408E-9735-AC83DE8DE7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94CA9-5FAA-443C-A0DC-E27FD64CDE7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19C03-E468-4E52-A5E7-EA24F05713C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E6FA7-F04A-4DAE-B05A-A36337AF62B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EF6B5-8637-41DA-B9D8-363A6D43C9C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7D54B-CC0C-432C-8054-7780759D58D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A2EDD-9700-4F23-9668-03EE0F828B7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45363-27B2-46C9-9E9A-9C534ECAE24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464F4-1BB2-410C-966E-84EB5F52440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904B-405C-42F6-BD9C-7D281AF76A0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CD96D-0568-4BC8-97ED-44FF7EBEA08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42C7C-3082-43AC-8786-591E071F04B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36.png"/><Relationship Id="rId6" Type="http://schemas.openxmlformats.org/officeDocument/2006/relationships/image" Target="../media/image7.png"/><Relationship Id="rId7" Type="http://schemas.openxmlformats.org/officeDocument/2006/relationships/image" Target="../media/image12.png"/><Relationship Id="rId8" Type="http://schemas.openxmlformats.org/officeDocument/2006/relationships/image" Target="../media/image3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7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92160"/>
            <a:ext cx="3500640" cy="89532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3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57120" y="2357280"/>
              <a:ext cx="3138120" cy="3357000"/>
              <a:chOff x="357120" y="2357280"/>
              <a:chExt cx="313812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57120" y="2357280"/>
                <a:ext cx="3138120" cy="3357000"/>
                <a:chOff x="357120" y="2357280"/>
                <a:chExt cx="313812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57120" y="2357280"/>
                  <a:ext cx="3138120" cy="3357000"/>
                </a:xfrm>
                <a:custGeom>
                  <a:avLst/>
                  <a:gdLst>
                    <a:gd name="textAreaLeft" fmla="*/ 153000 w 3138120"/>
                    <a:gd name="textAreaRight" fmla="*/ 2985120 w 3138120"/>
                    <a:gd name="textAreaTop" fmla="*/ 153000 h 3357000"/>
                    <a:gd name="textAreaBottom" fmla="*/ 3204000 h 3357000"/>
                  </a:gdLst>
                  <a:ahLst/>
                  <a:rect l="textAreaLeft" t="textAreaTop" r="textAreaRight" b="textAreaBottom"/>
                  <a:pathLst>
                    <a:path w="21600" h="23106">
                      <a:moveTo>
                        <a:pt x="3600" y="0"/>
                      </a:moveTo>
                      <a:arcTo wR="3600" hR="3600" stAng="16200000" swAng="-5400000"/>
                      <a:lnTo>
                        <a:pt x="0" y="19506"/>
                      </a:lnTo>
                      <a:arcTo wR="3600" hR="3600" stAng="10800000" swAng="-5400000"/>
                      <a:lnTo>
                        <a:pt x="18000" y="2310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57120" y="2357280"/>
                  <a:ext cx="58104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29480" y="2441160"/>
                <a:ext cx="2994480" cy="3217680"/>
                <a:chOff x="429480" y="2441160"/>
                <a:chExt cx="299448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29480" y="2441160"/>
                  <a:ext cx="2994480" cy="3217680"/>
                </a:xfrm>
                <a:custGeom>
                  <a:avLst/>
                  <a:gdLst>
                    <a:gd name="textAreaLeft" fmla="*/ 146160 w 2994480"/>
                    <a:gd name="textAreaRight" fmla="*/ 2848320 w 2994480"/>
                    <a:gd name="textAreaTop" fmla="*/ 146160 h 3217680"/>
                    <a:gd name="textAreaBottom" fmla="*/ 3071520 h 3217680"/>
                  </a:gdLst>
                  <a:ahLst/>
                  <a:rect l="textAreaLeft" t="textAreaTop" r="textAreaRight" b="textAreaBottom"/>
                  <a:pathLst>
                    <a:path w="21600" h="23210">
                      <a:moveTo>
                        <a:pt x="3600" y="0"/>
                      </a:moveTo>
                      <a:arcTo wR="3600" hR="3600" stAng="16200000" swAng="-5400000"/>
                      <a:lnTo>
                        <a:pt x="0" y="19610"/>
                      </a:lnTo>
                      <a:arcTo wR="3600" hR="3600" stAng="10800000" swAng="-5400000"/>
                      <a:lnTo>
                        <a:pt x="18000" y="232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29480" y="2441160"/>
                  <a:ext cx="55512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70960" y="3143160"/>
                <a:ext cx="268668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02120" y="2401560"/>
              <a:ext cx="21790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493200" y="3315960"/>
              <a:ext cx="300708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09040" y="2344680"/>
            <a:ext cx="20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96960" y="3267000"/>
            <a:ext cx="24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최근 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15000" y="418788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04E8C-FD84-475F-A73D-1F5A7D4B929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9" name="그룹 56"/>
          <p:cNvGrpSpPr/>
          <p:nvPr/>
        </p:nvGrpSpPr>
        <p:grpSpPr>
          <a:xfrm>
            <a:off x="214200" y="2297160"/>
            <a:ext cx="8820360" cy="3603600"/>
            <a:chOff x="214200" y="2297160"/>
            <a:chExt cx="8820360" cy="3603600"/>
          </a:xfrm>
        </p:grpSpPr>
        <p:sp>
          <p:nvSpPr>
            <p:cNvPr id="1120" name="Text Box 126"/>
            <p:cNvSpPr/>
            <p:nvPr/>
          </p:nvSpPr>
          <p:spPr>
            <a:xfrm>
              <a:off x="5813640" y="2297160"/>
              <a:ext cx="3220920" cy="36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8000"/>
                  </a:solidFill>
                  <a:latin typeface="휴먼모음T"/>
                  <a:ea typeface="휴먼모음T"/>
                </a:rPr>
                <a:t>문항의 표현양식에 따른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항을 문자로 표현한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림이나 도형으로 문항을 구성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작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능을 수행하도록 요구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131"/>
            <p:cNvSpPr/>
            <p:nvPr/>
          </p:nvSpPr>
          <p:spPr>
            <a:xfrm>
              <a:off x="214200" y="2334960"/>
              <a:ext cx="3357720" cy="32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336699"/>
                  </a:solidFill>
                  <a:latin typeface="휴먼모음T"/>
                  <a:ea typeface="휴먼모음T"/>
                </a:rPr>
                <a:t>실시방식을 기준으로 한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별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한 명의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를 대상으로 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집단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여러 명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들을 대상으로 동시에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2" name="그룹 56"/>
            <p:cNvGrpSpPr/>
            <p:nvPr/>
          </p:nvGrpSpPr>
          <p:grpSpPr>
            <a:xfrm>
              <a:off x="3110040" y="3204000"/>
              <a:ext cx="2820240" cy="2259000"/>
              <a:chOff x="3110040" y="3204000"/>
              <a:chExt cx="2820240" cy="2259000"/>
            </a:xfrm>
          </p:grpSpPr>
          <p:sp>
            <p:nvSpPr>
              <p:cNvPr id="1123" name="AutoShape 103"/>
              <p:cNvSpPr/>
              <p:nvPr/>
            </p:nvSpPr>
            <p:spPr>
              <a:xfrm flipH="1" rot="4130400">
                <a:off x="3371040" y="346680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953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AutoShape 97"/>
              <p:cNvSpPr/>
              <p:nvPr/>
            </p:nvSpPr>
            <p:spPr>
              <a:xfrm rot="17399400">
                <a:off x="3953160" y="344808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lin ang="96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AutoShape 102"/>
              <p:cNvSpPr/>
              <p:nvPr/>
            </p:nvSpPr>
            <p:spPr>
              <a:xfrm flipH="1" rot="9468600">
                <a:off x="3372480" y="3466800"/>
                <a:ext cx="1732320" cy="173304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14868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6" name="슬라이드 번호 개체 틀 1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1F655-BB76-4240-8F5A-0C533A005C3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7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28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29" name="직사각형 17"/>
              <p:cNvSpPr/>
              <p:nvPr/>
            </p:nvSpPr>
            <p:spPr>
              <a:xfrm>
                <a:off x="1419120" y="138636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검사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32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3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3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7" name="그룹 24"/>
          <p:cNvGrpSpPr/>
          <p:nvPr/>
        </p:nvGrpSpPr>
        <p:grpSpPr>
          <a:xfrm>
            <a:off x="142920" y="3225960"/>
            <a:ext cx="5670360" cy="2170080"/>
            <a:chOff x="142920" y="3225960"/>
            <a:chExt cx="5670360" cy="2170080"/>
          </a:xfrm>
        </p:grpSpPr>
        <p:grpSp>
          <p:nvGrpSpPr>
            <p:cNvPr id="1138" name="타원 19"/>
            <p:cNvGrpSpPr/>
            <p:nvPr/>
          </p:nvGrpSpPr>
          <p:grpSpPr>
            <a:xfrm>
              <a:off x="142920" y="3225960"/>
              <a:ext cx="226080" cy="218160"/>
              <a:chOff x="142920" y="3225960"/>
              <a:chExt cx="226080" cy="218160"/>
            </a:xfrm>
          </p:grpSpPr>
          <p:pic>
            <p:nvPicPr>
              <p:cNvPr id="1139" name="타원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142920" y="322596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225000" y="32803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1" name="타원 20"/>
            <p:cNvGrpSpPr/>
            <p:nvPr/>
          </p:nvGrpSpPr>
          <p:grpSpPr>
            <a:xfrm>
              <a:off x="142920" y="4305240"/>
              <a:ext cx="226080" cy="218160"/>
              <a:chOff x="142920" y="4305240"/>
              <a:chExt cx="226080" cy="218160"/>
            </a:xfrm>
          </p:grpSpPr>
          <p:pic>
            <p:nvPicPr>
              <p:cNvPr id="1142" name="타원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920" y="430524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3" name=""/>
              <p:cNvSpPr/>
              <p:nvPr/>
            </p:nvSpPr>
            <p:spPr>
              <a:xfrm rot="10800000">
                <a:off x="225000" y="43567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타원 21"/>
            <p:cNvGrpSpPr/>
            <p:nvPr/>
          </p:nvGrpSpPr>
          <p:grpSpPr>
            <a:xfrm>
              <a:off x="5592960" y="3271680"/>
              <a:ext cx="220320" cy="218160"/>
              <a:chOff x="5592960" y="3271680"/>
              <a:chExt cx="220320" cy="218160"/>
            </a:xfrm>
          </p:grpSpPr>
          <p:pic>
            <p:nvPicPr>
              <p:cNvPr id="1145" name="타원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5592960" y="32716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5669640" y="332208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22"/>
            <p:cNvGrpSpPr/>
            <p:nvPr/>
          </p:nvGrpSpPr>
          <p:grpSpPr>
            <a:xfrm>
              <a:off x="5592960" y="4104360"/>
              <a:ext cx="220320" cy="218160"/>
              <a:chOff x="5592960" y="4104360"/>
              <a:chExt cx="220320" cy="218160"/>
            </a:xfrm>
          </p:grpSpPr>
          <p:pic>
            <p:nvPicPr>
              <p:cNvPr id="1148" name="타원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5592960" y="410436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5669640" y="415476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타원 23"/>
            <p:cNvGrpSpPr/>
            <p:nvPr/>
          </p:nvGrpSpPr>
          <p:grpSpPr>
            <a:xfrm>
              <a:off x="5592960" y="5177880"/>
              <a:ext cx="220320" cy="218160"/>
              <a:chOff x="5592960" y="5177880"/>
              <a:chExt cx="220320" cy="218160"/>
            </a:xfrm>
          </p:grpSpPr>
          <p:pic>
            <p:nvPicPr>
              <p:cNvPr id="1151" name="타원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5592960" y="51778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2" name=""/>
              <p:cNvSpPr/>
              <p:nvPr/>
            </p:nvSpPr>
            <p:spPr>
              <a:xfrm rot="10800000">
                <a:off x="5669640" y="52315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154" name="TextBox 38"/>
          <p:cNvSpPr/>
          <p:nvPr/>
        </p:nvSpPr>
        <p:spPr>
          <a:xfrm>
            <a:off x="-2922840" y="5873760"/>
            <a:ext cx="2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9BF32-0C9D-4A33-9AF0-B3B9F63555F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5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58" name="직사각형 47"/>
              <p:cNvSpPr/>
              <p:nvPr/>
            </p:nvSpPr>
            <p:spPr>
              <a:xfrm>
                <a:off x="1252440" y="13863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직선 연결선 4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61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2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6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5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그룹 37"/>
          <p:cNvGrpSpPr/>
          <p:nvPr/>
        </p:nvGrpSpPr>
        <p:grpSpPr>
          <a:xfrm>
            <a:off x="214200" y="1857240"/>
            <a:ext cx="8501040" cy="1143000"/>
            <a:chOff x="214200" y="1857240"/>
            <a:chExt cx="8501040" cy="1143000"/>
          </a:xfrm>
        </p:grpSpPr>
        <p:grpSp>
          <p:nvGrpSpPr>
            <p:cNvPr id="1167" name="그룹 37"/>
            <p:cNvGrpSpPr/>
            <p:nvPr/>
          </p:nvGrpSpPr>
          <p:grpSpPr>
            <a:xfrm>
              <a:off x="214200" y="1857240"/>
              <a:ext cx="8501040" cy="1143000"/>
              <a:chOff x="214200" y="1857240"/>
              <a:chExt cx="8501040" cy="1143000"/>
            </a:xfrm>
          </p:grpSpPr>
          <p:grpSp>
            <p:nvGrpSpPr>
              <p:cNvPr id="1168" name="그룹 91"/>
              <p:cNvGrpSpPr/>
              <p:nvPr/>
            </p:nvGrpSpPr>
            <p:grpSpPr>
              <a:xfrm>
                <a:off x="214200" y="2071440"/>
                <a:ext cx="8501040" cy="928800"/>
                <a:chOff x="214200" y="2071440"/>
                <a:chExt cx="8501040" cy="928800"/>
              </a:xfrm>
            </p:grpSpPr>
            <p:pic>
              <p:nvPicPr>
                <p:cNvPr id="116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14200" y="2071440"/>
                  <a:ext cx="8501040" cy="92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0" name="직사각형 61"/>
                <p:cNvSpPr/>
                <p:nvPr/>
              </p:nvSpPr>
              <p:spPr>
                <a:xfrm>
                  <a:off x="1214280" y="23364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인이 지능검사에서 얻은 점수를 특정 연령집단의 평균과 비교하여 표시한 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그룹 44"/>
              <p:cNvGrpSpPr/>
              <p:nvPr/>
            </p:nvGrpSpPr>
            <p:grpSpPr>
              <a:xfrm>
                <a:off x="856800" y="1857240"/>
                <a:ext cx="7574040" cy="551160"/>
                <a:chOff x="856800" y="1857240"/>
                <a:chExt cx="7574040" cy="551160"/>
              </a:xfrm>
            </p:grpSpPr>
            <p:grpSp>
              <p:nvGrpSpPr>
                <p:cNvPr id="1172" name="그룹 91"/>
                <p:cNvGrpSpPr/>
                <p:nvPr/>
              </p:nvGrpSpPr>
              <p:grpSpPr>
                <a:xfrm>
                  <a:off x="856800" y="1857240"/>
                  <a:ext cx="2558520" cy="551160"/>
                  <a:chOff x="856800" y="1857240"/>
                  <a:chExt cx="2558520" cy="551160"/>
                </a:xfrm>
              </p:grpSpPr>
              <p:grpSp>
                <p:nvGrpSpPr>
                  <p:cNvPr id="1173" name="그룹 34"/>
                  <p:cNvGrpSpPr/>
                  <p:nvPr/>
                </p:nvGrpSpPr>
                <p:grpSpPr>
                  <a:xfrm>
                    <a:off x="856800" y="1966680"/>
                    <a:ext cx="349200" cy="362160"/>
                    <a:chOff x="856800" y="1966680"/>
                    <a:chExt cx="349200" cy="362160"/>
                  </a:xfrm>
                </p:grpSpPr>
                <p:pic>
                  <p:nvPicPr>
                    <p:cNvPr id="117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5680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75" name="TextBox 36"/>
                    <p:cNvSpPr/>
                    <p:nvPr/>
                  </p:nvSpPr>
                  <p:spPr>
                    <a:xfrm>
                      <a:off x="88488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6" name="직사각형 57"/>
                  <p:cNvSpPr/>
                  <p:nvPr/>
                </p:nvSpPr>
                <p:spPr>
                  <a:xfrm>
                    <a:off x="1368000" y="1857240"/>
                    <a:ext cx="20473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mental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ag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7" name="직선 연결선 55"/>
                <p:cNvSpPr/>
                <p:nvPr/>
              </p:nvSpPr>
              <p:spPr>
                <a:xfrm>
                  <a:off x="4212720" y="2143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8" name="타원 51"/>
            <p:cNvGrpSpPr/>
            <p:nvPr/>
          </p:nvGrpSpPr>
          <p:grpSpPr>
            <a:xfrm>
              <a:off x="993240" y="2499120"/>
              <a:ext cx="225360" cy="237600"/>
              <a:chOff x="993240" y="2499120"/>
              <a:chExt cx="225360" cy="237600"/>
            </a:xfrm>
          </p:grpSpPr>
          <p:pic>
            <p:nvPicPr>
              <p:cNvPr id="1179" name="타원 51" descr=""/>
              <p:cNvPicPr/>
              <p:nvPr/>
            </p:nvPicPr>
            <p:blipFill>
              <a:blip r:embed="rId5"/>
              <a:stretch/>
            </p:blipFill>
            <p:spPr>
              <a:xfrm>
                <a:off x="993240" y="2499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0" name=""/>
              <p:cNvSpPr/>
              <p:nvPr/>
            </p:nvSpPr>
            <p:spPr>
              <a:xfrm rot="10800000">
                <a:off x="1073520" y="2558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1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1182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1183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118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85" name="직사각형 8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검사에서 얻는 점수를 동년배와 상대적으로 비교하여 나타낸 지능지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6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1187" name="그룹 91"/>
                <p:cNvGrpSpPr/>
                <p:nvPr/>
              </p:nvGrpSpPr>
              <p:grpSpPr>
                <a:xfrm>
                  <a:off x="856800" y="5143680"/>
                  <a:ext cx="4905000" cy="551160"/>
                  <a:chOff x="856800" y="5143680"/>
                  <a:chExt cx="4905000" cy="551160"/>
                </a:xfrm>
              </p:grpSpPr>
              <p:grpSp>
                <p:nvGrpSpPr>
                  <p:cNvPr id="1188" name="그룹 34"/>
                  <p:cNvGrpSpPr/>
                  <p:nvPr/>
                </p:nvGrpSpPr>
                <p:grpSpPr>
                  <a:xfrm>
                    <a:off x="856800" y="5253120"/>
                    <a:ext cx="349200" cy="361800"/>
                    <a:chOff x="856800" y="5253120"/>
                    <a:chExt cx="349200" cy="361800"/>
                  </a:xfrm>
                </p:grpSpPr>
                <p:pic>
                  <p:nvPicPr>
                    <p:cNvPr id="118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56800" y="526068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0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1" name="직사각형 84"/>
                  <p:cNvSpPr/>
                  <p:nvPr/>
                </p:nvSpPr>
                <p:spPr>
                  <a:xfrm>
                    <a:off x="1591560" y="5143680"/>
                    <a:ext cx="4170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편차지능지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eviation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intelligence quotient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2" name="직선 연결선 82"/>
                <p:cNvSpPr/>
                <p:nvPr/>
              </p:nvSpPr>
              <p:spPr>
                <a:xfrm>
                  <a:off x="6335280" y="5421240"/>
                  <a:ext cx="2095560" cy="936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3" name="타원 78"/>
            <p:cNvGrpSpPr/>
            <p:nvPr/>
          </p:nvGrpSpPr>
          <p:grpSpPr>
            <a:xfrm>
              <a:off x="993240" y="5815800"/>
              <a:ext cx="225360" cy="231480"/>
              <a:chOff x="993240" y="5815800"/>
              <a:chExt cx="225360" cy="231480"/>
            </a:xfrm>
          </p:grpSpPr>
          <p:pic>
            <p:nvPicPr>
              <p:cNvPr id="1194" name="타원 78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5815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5" name=""/>
              <p:cNvSpPr/>
              <p:nvPr/>
            </p:nvSpPr>
            <p:spPr>
              <a:xfrm rot="10800000">
                <a:off x="1073520" y="5872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6" name="그룹 98"/>
          <p:cNvGrpSpPr/>
          <p:nvPr/>
        </p:nvGrpSpPr>
        <p:grpSpPr>
          <a:xfrm>
            <a:off x="214200" y="3178080"/>
            <a:ext cx="8501040" cy="1859040"/>
            <a:chOff x="214200" y="3178080"/>
            <a:chExt cx="8501040" cy="1859040"/>
          </a:xfrm>
        </p:grpSpPr>
        <p:grpSp>
          <p:nvGrpSpPr>
            <p:cNvPr id="1197" name="그룹 37"/>
            <p:cNvGrpSpPr/>
            <p:nvPr/>
          </p:nvGrpSpPr>
          <p:grpSpPr>
            <a:xfrm>
              <a:off x="214200" y="3178080"/>
              <a:ext cx="8501040" cy="1859040"/>
              <a:chOff x="214200" y="3178080"/>
              <a:chExt cx="8501040" cy="1859040"/>
            </a:xfrm>
          </p:grpSpPr>
          <p:grpSp>
            <p:nvGrpSpPr>
              <p:cNvPr id="1198" name="그룹 37"/>
              <p:cNvGrpSpPr/>
              <p:nvPr/>
            </p:nvGrpSpPr>
            <p:grpSpPr>
              <a:xfrm>
                <a:off x="214200" y="3178080"/>
                <a:ext cx="8501040" cy="1859040"/>
                <a:chOff x="214200" y="3178080"/>
                <a:chExt cx="8501040" cy="1859040"/>
              </a:xfrm>
            </p:grpSpPr>
            <p:grpSp>
              <p:nvGrpSpPr>
                <p:cNvPr id="1199" name="그룹 91"/>
                <p:cNvGrpSpPr/>
                <p:nvPr/>
              </p:nvGrpSpPr>
              <p:grpSpPr>
                <a:xfrm>
                  <a:off x="214200" y="3392280"/>
                  <a:ext cx="8501040" cy="1644840"/>
                  <a:chOff x="214200" y="3392280"/>
                  <a:chExt cx="8501040" cy="1644840"/>
                </a:xfrm>
              </p:grpSpPr>
              <p:pic>
                <p:nvPicPr>
                  <p:cNvPr id="1200" name="Picture 5" descr="233"/>
                  <p:cNvPicPr/>
                  <p:nvPr/>
                </p:nvPicPr>
                <p:blipFill>
                  <a:blip r:embed="rId9"/>
                  <a:srcRect l="0" t="0" r="24313" b="0"/>
                  <a:stretch/>
                </p:blipFill>
                <p:spPr>
                  <a:xfrm>
                    <a:off x="214200" y="3392280"/>
                    <a:ext cx="8501040" cy="1644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1201" name="직사각형 74"/>
                  <p:cNvSpPr/>
                  <p:nvPr/>
                </p:nvSpPr>
                <p:spPr>
                  <a:xfrm>
                    <a:off x="1214280" y="3657240"/>
                    <a:ext cx="750096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은 생활연령의 비로 나타낸 지능지수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2" name="그룹 44"/>
                <p:cNvGrpSpPr/>
                <p:nvPr/>
              </p:nvGrpSpPr>
              <p:grpSpPr>
                <a:xfrm>
                  <a:off x="856800" y="3178080"/>
                  <a:ext cx="7574040" cy="551160"/>
                  <a:chOff x="856800" y="3178080"/>
                  <a:chExt cx="7574040" cy="551160"/>
                </a:xfrm>
              </p:grpSpPr>
              <p:grpSp>
                <p:nvGrpSpPr>
                  <p:cNvPr id="1203" name="그룹 91"/>
                  <p:cNvGrpSpPr/>
                  <p:nvPr/>
                </p:nvGrpSpPr>
                <p:grpSpPr>
                  <a:xfrm>
                    <a:off x="856800" y="3178080"/>
                    <a:ext cx="4433040" cy="551160"/>
                    <a:chOff x="856800" y="3178080"/>
                    <a:chExt cx="4433040" cy="551160"/>
                  </a:xfrm>
                </p:grpSpPr>
                <p:grpSp>
                  <p:nvGrpSpPr>
                    <p:cNvPr id="1204" name="그룹 34"/>
                    <p:cNvGrpSpPr/>
                    <p:nvPr/>
                  </p:nvGrpSpPr>
                  <p:grpSpPr>
                    <a:xfrm>
                      <a:off x="856800" y="3287520"/>
                      <a:ext cx="349200" cy="362520"/>
                      <a:chOff x="856800" y="3287520"/>
                      <a:chExt cx="349200" cy="362520"/>
                    </a:xfrm>
                  </p:grpSpPr>
                  <p:pic>
                    <p:nvPicPr>
                      <p:cNvPr id="1205" name="Picture 177" descr="bull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856800" y="3291480"/>
                        <a:ext cx="349200" cy="35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206" name="TextBox 36"/>
                      <p:cNvSpPr/>
                      <p:nvPr/>
                    </p:nvSpPr>
                    <p:spPr>
                      <a:xfrm>
                        <a:off x="884880" y="328752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07" name="직사각형 70"/>
                    <p:cNvSpPr/>
                    <p:nvPr/>
                  </p:nvSpPr>
                  <p:spPr>
                    <a:xfrm>
                      <a:off x="1555560" y="3178080"/>
                      <a:ext cx="373428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비율지능지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ratio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intelligence quotie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8" name="직선 연결선 68"/>
                  <p:cNvSpPr/>
                  <p:nvPr/>
                </p:nvSpPr>
                <p:spPr>
                  <a:xfrm>
                    <a:off x="5827320" y="3456000"/>
                    <a:ext cx="2603520" cy="936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9" name="타원 64"/>
              <p:cNvGrpSpPr/>
              <p:nvPr/>
            </p:nvGrpSpPr>
            <p:grpSpPr>
              <a:xfrm>
                <a:off x="993240" y="3822120"/>
                <a:ext cx="225360" cy="231480"/>
                <a:chOff x="993240" y="3822120"/>
                <a:chExt cx="225360" cy="231480"/>
              </a:xfrm>
            </p:grpSpPr>
            <p:pic>
              <p:nvPicPr>
                <p:cNvPr id="1210" name="타원 64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993240" y="38221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1" name=""/>
                <p:cNvSpPr/>
                <p:nvPr/>
              </p:nvSpPr>
              <p:spPr>
                <a:xfrm rot="10800000">
                  <a:off x="1073520" y="3880080"/>
                  <a:ext cx="69120" cy="6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2" name="그룹 97"/>
            <p:cNvGrpSpPr/>
            <p:nvPr/>
          </p:nvGrpSpPr>
          <p:grpSpPr>
            <a:xfrm>
              <a:off x="5572080" y="3786120"/>
              <a:ext cx="3000240" cy="1001160"/>
              <a:chOff x="5572080" y="3786120"/>
              <a:chExt cx="3000240" cy="1001160"/>
            </a:xfrm>
          </p:grpSpPr>
          <p:grpSp>
            <p:nvGrpSpPr>
              <p:cNvPr id="1213" name="모서리가 둥근 직사각형 89"/>
              <p:cNvGrpSpPr/>
              <p:nvPr/>
            </p:nvGrpSpPr>
            <p:grpSpPr>
              <a:xfrm>
                <a:off x="5572080" y="3786120"/>
                <a:ext cx="3000240" cy="1001160"/>
                <a:chOff x="5572080" y="3786120"/>
                <a:chExt cx="3000240" cy="1001160"/>
              </a:xfrm>
            </p:grpSpPr>
            <p:pic>
              <p:nvPicPr>
                <p:cNvPr id="1214" name="모서리가 둥근 직사각형 8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572080" y="3786120"/>
                  <a:ext cx="3000240" cy="100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5" name=""/>
                <p:cNvSpPr/>
                <p:nvPr/>
              </p:nvSpPr>
              <p:spPr>
                <a:xfrm>
                  <a:off x="5735520" y="3918240"/>
                  <a:ext cx="2680560" cy="72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6" name="그룹 48"/>
              <p:cNvGrpSpPr/>
              <p:nvPr/>
            </p:nvGrpSpPr>
            <p:grpSpPr>
              <a:xfrm>
                <a:off x="5756400" y="4006800"/>
                <a:ext cx="2638800" cy="654120"/>
                <a:chOff x="5756400" y="4006800"/>
                <a:chExt cx="2638800" cy="654120"/>
              </a:xfrm>
            </p:grpSpPr>
            <p:sp>
              <p:nvSpPr>
                <p:cNvPr id="1217" name="TextBox 41"/>
                <p:cNvSpPr/>
                <p:nvPr/>
              </p:nvSpPr>
              <p:spPr>
                <a:xfrm>
                  <a:off x="5756400" y="4140000"/>
                  <a:ext cx="659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IQ =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TextBox 42"/>
                <p:cNvSpPr/>
                <p:nvPr/>
              </p:nvSpPr>
              <p:spPr>
                <a:xfrm>
                  <a:off x="7603560" y="4140000"/>
                  <a:ext cx="791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x 100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9" name="그룹 47"/>
                <p:cNvGrpSpPr/>
                <p:nvPr/>
              </p:nvGrpSpPr>
              <p:grpSpPr>
                <a:xfrm>
                  <a:off x="6283800" y="4006800"/>
                  <a:ext cx="1385640" cy="654120"/>
                  <a:chOff x="6283800" y="4006800"/>
                  <a:chExt cx="1385640" cy="654120"/>
                </a:xfrm>
              </p:grpSpPr>
              <p:sp>
                <p:nvSpPr>
                  <p:cNvPr id="1220" name="TextBox 43"/>
                  <p:cNvSpPr/>
                  <p:nvPr/>
                </p:nvSpPr>
                <p:spPr>
                  <a:xfrm>
                    <a:off x="6350040" y="43236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C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생활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TextBox 44"/>
                  <p:cNvSpPr/>
                  <p:nvPr/>
                </p:nvSpPr>
                <p:spPr>
                  <a:xfrm>
                    <a:off x="6350040" y="40068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M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직선 연결선 46"/>
                  <p:cNvSpPr/>
                  <p:nvPr/>
                </p:nvSpPr>
                <p:spPr>
                  <a:xfrm flipH="1" flipV="1">
                    <a:off x="6283800" y="4286520"/>
                    <a:ext cx="126324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23" name="타원 63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1224" name="타원 63" descr=""/>
            <p:cNvPicPr/>
            <p:nvPr/>
          </p:nvPicPr>
          <p:blipFill>
            <a:blip r:embed="rId13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직사각형 65"/>
          <p:cNvSpPr/>
          <p:nvPr/>
        </p:nvSpPr>
        <p:spPr>
          <a:xfrm>
            <a:off x="1214280" y="603396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점수가 어느 위치에 해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28" name="슬라이드 번호 개체 틀 2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CD8BB-6DE0-4FE4-A35C-E21A25411DB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그룹 91"/>
          <p:cNvGrpSpPr/>
          <p:nvPr/>
        </p:nvGrpSpPr>
        <p:grpSpPr>
          <a:xfrm>
            <a:off x="285840" y="1785960"/>
            <a:ext cx="8501040" cy="4071960"/>
            <a:chOff x="285840" y="1785960"/>
            <a:chExt cx="8501040" cy="4071960"/>
          </a:xfrm>
        </p:grpSpPr>
        <p:pic>
          <p:nvPicPr>
            <p:cNvPr id="1230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1785960"/>
              <a:ext cx="8501040" cy="407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31" name="직사각형 32"/>
            <p:cNvSpPr/>
            <p:nvPr/>
          </p:nvSpPr>
          <p:spPr>
            <a:xfrm>
              <a:off x="1285920" y="245592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그룹 43"/>
          <p:cNvGrpSpPr/>
          <p:nvPr/>
        </p:nvGrpSpPr>
        <p:grpSpPr>
          <a:xfrm>
            <a:off x="928800" y="2222640"/>
            <a:ext cx="2973240" cy="551160"/>
            <a:chOff x="928800" y="2222640"/>
            <a:chExt cx="2973240" cy="551160"/>
          </a:xfrm>
        </p:grpSpPr>
        <p:grpSp>
          <p:nvGrpSpPr>
            <p:cNvPr id="1233" name="그룹 34"/>
            <p:cNvGrpSpPr/>
            <p:nvPr/>
          </p:nvGrpSpPr>
          <p:grpSpPr>
            <a:xfrm>
              <a:off x="928800" y="2319480"/>
              <a:ext cx="349200" cy="374760"/>
              <a:chOff x="928800" y="2319480"/>
              <a:chExt cx="349200" cy="374760"/>
            </a:xfrm>
          </p:grpSpPr>
          <p:pic>
            <p:nvPicPr>
              <p:cNvPr id="1234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928800" y="2340360"/>
                <a:ext cx="349200" cy="3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5" name="TextBox 36"/>
              <p:cNvSpPr/>
              <p:nvPr/>
            </p:nvSpPr>
            <p:spPr>
              <a:xfrm>
                <a:off x="956160" y="2319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6" name="직사각형 28"/>
            <p:cNvSpPr/>
            <p:nvPr/>
          </p:nvSpPr>
          <p:spPr>
            <a:xfrm>
              <a:off x="1784160" y="22226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는 지능과 다르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7" name="Picture 33" descr="C:\Documents and Settings\신형수\Local Settings\Temporary Internet Files\Content.IE5\WCQ5N9GP\MCj03200320000[1].wmf"/>
          <p:cNvPicPr/>
          <p:nvPr/>
        </p:nvPicPr>
        <p:blipFill>
          <a:blip r:embed="rId4"/>
          <a:stretch/>
        </p:blipFill>
        <p:spPr>
          <a:xfrm>
            <a:off x="7924680" y="4992840"/>
            <a:ext cx="1060560" cy="1126800"/>
          </a:xfrm>
          <a:prstGeom prst="rect">
            <a:avLst/>
          </a:prstGeom>
          <a:ln w="0">
            <a:noFill/>
          </a:ln>
        </p:spPr>
      </p:pic>
      <p:grpSp>
        <p:nvGrpSpPr>
          <p:cNvPr id="1238" name="그룹 44"/>
          <p:cNvGrpSpPr/>
          <p:nvPr/>
        </p:nvGrpSpPr>
        <p:grpSpPr>
          <a:xfrm>
            <a:off x="928800" y="3083040"/>
            <a:ext cx="4079880" cy="551160"/>
            <a:chOff x="928800" y="3083040"/>
            <a:chExt cx="4079880" cy="551160"/>
          </a:xfrm>
        </p:grpSpPr>
        <p:grpSp>
          <p:nvGrpSpPr>
            <p:cNvPr id="1239" name="그룹 34"/>
            <p:cNvGrpSpPr/>
            <p:nvPr/>
          </p:nvGrpSpPr>
          <p:grpSpPr>
            <a:xfrm>
              <a:off x="928800" y="3179880"/>
              <a:ext cx="349200" cy="374760"/>
              <a:chOff x="928800" y="3179880"/>
              <a:chExt cx="349200" cy="374760"/>
            </a:xfrm>
          </p:grpSpPr>
          <p:pic>
            <p:nvPicPr>
              <p:cNvPr id="1240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928800" y="32000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TextBox 36"/>
              <p:cNvSpPr/>
              <p:nvPr/>
            </p:nvSpPr>
            <p:spPr>
              <a:xfrm>
                <a:off x="956160" y="3179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2" name="직사각형 46"/>
            <p:cNvSpPr/>
            <p:nvPr/>
          </p:nvSpPr>
          <p:spPr>
            <a:xfrm>
              <a:off x="2063520" y="3083040"/>
              <a:ext cx="2945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가 시간경과에 따라 변화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그룹 49"/>
          <p:cNvGrpSpPr/>
          <p:nvPr/>
        </p:nvGrpSpPr>
        <p:grpSpPr>
          <a:xfrm>
            <a:off x="928800" y="3943440"/>
            <a:ext cx="5065560" cy="551160"/>
            <a:chOff x="928800" y="3943440"/>
            <a:chExt cx="5065560" cy="551160"/>
          </a:xfrm>
        </p:grpSpPr>
        <p:grpSp>
          <p:nvGrpSpPr>
            <p:cNvPr id="1244" name="그룹 34"/>
            <p:cNvGrpSpPr/>
            <p:nvPr/>
          </p:nvGrpSpPr>
          <p:grpSpPr>
            <a:xfrm>
              <a:off x="928800" y="4040280"/>
              <a:ext cx="349200" cy="374760"/>
              <a:chOff x="928800" y="4040280"/>
              <a:chExt cx="349200" cy="374760"/>
            </a:xfrm>
          </p:grpSpPr>
          <p:pic>
            <p:nvPicPr>
              <p:cNvPr id="1245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928800" y="4059720"/>
                <a:ext cx="349200" cy="35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TextBox 36"/>
              <p:cNvSpPr/>
              <p:nvPr/>
            </p:nvSpPr>
            <p:spPr>
              <a:xfrm>
                <a:off x="956160" y="4040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7" name="직사각형 51"/>
            <p:cNvSpPr/>
            <p:nvPr/>
          </p:nvSpPr>
          <p:spPr>
            <a:xfrm>
              <a:off x="2308320" y="3943440"/>
              <a:ext cx="3686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가 중요한 능력을 모두 측정하지 못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8" name="그룹 54"/>
          <p:cNvGrpSpPr/>
          <p:nvPr/>
        </p:nvGrpSpPr>
        <p:grpSpPr>
          <a:xfrm>
            <a:off x="928800" y="4803840"/>
            <a:ext cx="2973240" cy="551160"/>
            <a:chOff x="928800" y="4803840"/>
            <a:chExt cx="2973240" cy="551160"/>
          </a:xfrm>
        </p:grpSpPr>
        <p:grpSp>
          <p:nvGrpSpPr>
            <p:cNvPr id="1249" name="그룹 34"/>
            <p:cNvGrpSpPr/>
            <p:nvPr/>
          </p:nvGrpSpPr>
          <p:grpSpPr>
            <a:xfrm>
              <a:off x="928800" y="4900680"/>
              <a:ext cx="349200" cy="374760"/>
              <a:chOff x="928800" y="4900680"/>
              <a:chExt cx="349200" cy="374760"/>
            </a:xfrm>
          </p:grpSpPr>
          <p:pic>
            <p:nvPicPr>
              <p:cNvPr id="125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928800" y="4919040"/>
                <a:ext cx="349200" cy="35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1" name="TextBox 36"/>
              <p:cNvSpPr/>
              <p:nvPr/>
            </p:nvSpPr>
            <p:spPr>
              <a:xfrm>
                <a:off x="956160" y="49006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2" name="직사각형 56"/>
            <p:cNvSpPr/>
            <p:nvPr/>
          </p:nvSpPr>
          <p:spPr>
            <a:xfrm>
              <a:off x="1784160" y="48038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는 공정하지 않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54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55" name="직사각형 66"/>
              <p:cNvSpPr/>
              <p:nvPr/>
            </p:nvSpPr>
            <p:spPr>
              <a:xfrm>
                <a:off x="1536120" y="138636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에 대한 오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직선 연결선 67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5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60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2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6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A5920-1D7E-4989-AF1B-A2820F6ED26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6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67" name="직사각형 12"/>
              <p:cNvSpPr/>
              <p:nvPr/>
            </p:nvSpPr>
            <p:spPr>
              <a:xfrm>
                <a:off x="1653120" y="1386360"/>
                <a:ext cx="205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 해석 시 유의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직선 연결선 1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7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그룹 39"/>
          <p:cNvGrpSpPr/>
          <p:nvPr/>
        </p:nvGrpSpPr>
        <p:grpSpPr>
          <a:xfrm>
            <a:off x="642960" y="2000160"/>
            <a:ext cx="8728200" cy="4000680"/>
            <a:chOff x="642960" y="2000160"/>
            <a:chExt cx="8728200" cy="4000680"/>
          </a:xfrm>
        </p:grpSpPr>
        <p:grpSp>
          <p:nvGrpSpPr>
            <p:cNvPr id="1276" name="그룹 123"/>
            <p:cNvGrpSpPr/>
            <p:nvPr/>
          </p:nvGrpSpPr>
          <p:grpSpPr>
            <a:xfrm>
              <a:off x="642960" y="2000160"/>
              <a:ext cx="8728200" cy="4000680"/>
              <a:chOff x="642960" y="2000160"/>
              <a:chExt cx="8728200" cy="4000680"/>
            </a:xfrm>
          </p:grpSpPr>
          <p:pic>
            <p:nvPicPr>
              <p:cNvPr id="1277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00160"/>
                <a:ext cx="80726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78" name="직사각형 19"/>
              <p:cNvSpPr/>
              <p:nvPr/>
            </p:nvSpPr>
            <p:spPr>
              <a:xfrm>
                <a:off x="869760" y="2071440"/>
                <a:ext cx="850140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는 상대적 지적 수준을 나타낸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의 지적 능력을 나타내는 지표는 매우 다양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동일하더라도 하위요인은 다를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가 높다고 해서 학업성적이 반드시 높은 것은 아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만을 기준으로 하여 중요한 의사결정을 내리지 말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9" name="타원 20"/>
              <p:cNvGrpSpPr/>
              <p:nvPr/>
            </p:nvGrpSpPr>
            <p:grpSpPr>
              <a:xfrm>
                <a:off x="908280" y="2432160"/>
                <a:ext cx="225360" cy="231480"/>
                <a:chOff x="908280" y="2432160"/>
                <a:chExt cx="225360" cy="231480"/>
              </a:xfrm>
            </p:grpSpPr>
            <p:pic>
              <p:nvPicPr>
                <p:cNvPr id="1280" name="타원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4321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1" name=""/>
                <p:cNvSpPr/>
                <p:nvPr/>
              </p:nvSpPr>
              <p:spPr>
                <a:xfrm rot="10800000">
                  <a:off x="987480" y="24876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2" name="타원 16"/>
            <p:cNvGrpSpPr/>
            <p:nvPr/>
          </p:nvGrpSpPr>
          <p:grpSpPr>
            <a:xfrm>
              <a:off x="908280" y="3145320"/>
              <a:ext cx="225360" cy="231480"/>
              <a:chOff x="908280" y="3145320"/>
              <a:chExt cx="225360" cy="231480"/>
            </a:xfrm>
          </p:grpSpPr>
          <p:pic>
            <p:nvPicPr>
              <p:cNvPr id="1283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4" name=""/>
              <p:cNvSpPr/>
              <p:nvPr/>
            </p:nvSpPr>
            <p:spPr>
              <a:xfrm rot="10800000">
                <a:off x="987480" y="320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5" name="타원 17"/>
            <p:cNvGrpSpPr/>
            <p:nvPr/>
          </p:nvGrpSpPr>
          <p:grpSpPr>
            <a:xfrm>
              <a:off x="908280" y="5218200"/>
              <a:ext cx="225360" cy="231480"/>
              <a:chOff x="908280" y="5218200"/>
              <a:chExt cx="225360" cy="231480"/>
            </a:xfrm>
          </p:grpSpPr>
          <p:pic>
            <p:nvPicPr>
              <p:cNvPr id="1286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5218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 rot="10800000">
                <a:off x="987480" y="527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타원 21"/>
            <p:cNvGrpSpPr/>
            <p:nvPr/>
          </p:nvGrpSpPr>
          <p:grpSpPr>
            <a:xfrm>
              <a:off x="908280" y="3816000"/>
              <a:ext cx="225360" cy="231480"/>
              <a:chOff x="908280" y="3816000"/>
              <a:chExt cx="225360" cy="231480"/>
            </a:xfrm>
          </p:grpSpPr>
          <p:pic>
            <p:nvPicPr>
              <p:cNvPr id="1289" name="타원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90828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1" name="타원 22"/>
            <p:cNvGrpSpPr/>
            <p:nvPr/>
          </p:nvGrpSpPr>
          <p:grpSpPr>
            <a:xfrm>
              <a:off x="908280" y="4529520"/>
              <a:ext cx="225360" cy="231480"/>
              <a:chOff x="908280" y="4529520"/>
              <a:chExt cx="225360" cy="231480"/>
            </a:xfrm>
          </p:grpSpPr>
          <p:pic>
            <p:nvPicPr>
              <p:cNvPr id="1292" name="타원 22" descr=""/>
              <p:cNvPicPr/>
              <p:nvPr/>
            </p:nvPicPr>
            <p:blipFill>
              <a:blip r:embed="rId8"/>
              <a:stretch/>
            </p:blipFill>
            <p:spPr>
              <a:xfrm>
                <a:off x="908280" y="4529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"/>
              <p:cNvSpPr/>
              <p:nvPr/>
            </p:nvSpPr>
            <p:spPr>
              <a:xfrm rot="10800000">
                <a:off x="987480" y="458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94" name="Picture 67" descr="C:\Users\ET-27\AppData\Local\Microsoft\Windows\Temporary Internet Files\Content.IE5\EK0NU43Q\MPj04386780000[1].jpg"/>
          <p:cNvPicPr/>
          <p:nvPr/>
        </p:nvPicPr>
        <p:blipFill>
          <a:blip r:embed="rId9"/>
          <a:stretch/>
        </p:blipFill>
        <p:spPr>
          <a:xfrm>
            <a:off x="8064360" y="5499000"/>
            <a:ext cx="9399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784" name="슬라이드 번호 개체 틀 38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5A535-F7AB-4D9F-94DB-AA50CC0BAE5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그룹 35"/>
          <p:cNvGrpSpPr/>
          <p:nvPr/>
        </p:nvGrpSpPr>
        <p:grpSpPr>
          <a:xfrm>
            <a:off x="642960" y="1143000"/>
            <a:ext cx="8429760" cy="455760"/>
            <a:chOff x="642960" y="1143000"/>
            <a:chExt cx="8429760" cy="455760"/>
          </a:xfrm>
        </p:grpSpPr>
        <p:grpSp>
          <p:nvGrpSpPr>
            <p:cNvPr id="786" name="그룹 48"/>
            <p:cNvGrpSpPr/>
            <p:nvPr/>
          </p:nvGrpSpPr>
          <p:grpSpPr>
            <a:xfrm>
              <a:off x="642960" y="1197360"/>
              <a:ext cx="8429760" cy="401400"/>
              <a:chOff x="642960" y="1197360"/>
              <a:chExt cx="8429760" cy="401400"/>
            </a:xfrm>
          </p:grpSpPr>
          <p:sp>
            <p:nvSpPr>
              <p:cNvPr id="787" name="직사각형 13"/>
              <p:cNvSpPr/>
              <p:nvPr/>
            </p:nvSpPr>
            <p:spPr>
              <a:xfrm>
                <a:off x="1488600" y="1197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측정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직선 연결선 18"/>
              <p:cNvSpPr/>
              <p:nvPr/>
            </p:nvSpPr>
            <p:spPr>
              <a:xfrm>
                <a:off x="642960" y="159732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그룹 49"/>
            <p:cNvGrpSpPr/>
            <p:nvPr/>
          </p:nvGrpSpPr>
          <p:grpSpPr>
            <a:xfrm>
              <a:off x="671400" y="1206360"/>
              <a:ext cx="328320" cy="319320"/>
              <a:chOff x="671400" y="1206360"/>
              <a:chExt cx="328320" cy="319320"/>
            </a:xfrm>
          </p:grpSpPr>
          <p:sp>
            <p:nvSpPr>
              <p:cNvPr id="790" name="AutoShape 4"/>
              <p:cNvSpPr/>
              <p:nvPr/>
            </p:nvSpPr>
            <p:spPr>
              <a:xfrm>
                <a:off x="671400" y="120636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" name="Freeform 5"/>
              <p:cNvGrpSpPr/>
              <p:nvPr/>
            </p:nvGrpSpPr>
            <p:grpSpPr>
              <a:xfrm>
                <a:off x="688680" y="1218960"/>
                <a:ext cx="170640" cy="176760"/>
                <a:chOff x="688680" y="1218960"/>
                <a:chExt cx="170640" cy="176760"/>
              </a:xfrm>
            </p:grpSpPr>
            <p:pic>
              <p:nvPicPr>
                <p:cNvPr id="7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896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3" name=""/>
                <p:cNvSpPr/>
                <p:nvPr/>
              </p:nvSpPr>
              <p:spPr>
                <a:xfrm>
                  <a:off x="691920" y="122724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4" name="TextBox 88"/>
            <p:cNvSpPr/>
            <p:nvPr/>
          </p:nvSpPr>
          <p:spPr>
            <a:xfrm>
              <a:off x="65808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그룹 43"/>
          <p:cNvGrpSpPr/>
          <p:nvPr/>
        </p:nvGrpSpPr>
        <p:grpSpPr>
          <a:xfrm>
            <a:off x="571680" y="1785960"/>
            <a:ext cx="8072280" cy="1058760"/>
            <a:chOff x="571680" y="1785960"/>
            <a:chExt cx="8072280" cy="1058760"/>
          </a:xfrm>
        </p:grpSpPr>
        <p:pic>
          <p:nvPicPr>
            <p:cNvPr id="79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785960"/>
              <a:ext cx="8072280" cy="1058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7" name="타원 49"/>
            <p:cNvGrpSpPr/>
            <p:nvPr/>
          </p:nvGrpSpPr>
          <p:grpSpPr>
            <a:xfrm>
              <a:off x="859680" y="2103120"/>
              <a:ext cx="225360" cy="231480"/>
              <a:chOff x="859680" y="2103120"/>
              <a:chExt cx="225360" cy="231480"/>
            </a:xfrm>
          </p:grpSpPr>
          <p:pic>
            <p:nvPicPr>
              <p:cNvPr id="798" name="타원 49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03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9" name=""/>
              <p:cNvSpPr/>
              <p:nvPr/>
            </p:nvSpPr>
            <p:spPr>
              <a:xfrm rot="10800000">
                <a:off x="943200" y="2157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직사각형 50"/>
            <p:cNvSpPr/>
            <p:nvPr/>
          </p:nvSpPr>
          <p:spPr>
            <a:xfrm>
              <a:off x="903240" y="18316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을 측정하여 지능지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IQ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로 나타내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를 비교하여 개인차를 진단하는 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력하는 접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그룹 37"/>
          <p:cNvGrpSpPr/>
          <p:nvPr/>
        </p:nvGrpSpPr>
        <p:grpSpPr>
          <a:xfrm>
            <a:off x="214200" y="3000240"/>
            <a:ext cx="8501040" cy="2000520"/>
            <a:chOff x="214200" y="3000240"/>
            <a:chExt cx="8501040" cy="2000520"/>
          </a:xfrm>
        </p:grpSpPr>
        <p:grpSp>
          <p:nvGrpSpPr>
            <p:cNvPr id="802" name="그룹 37"/>
            <p:cNvGrpSpPr/>
            <p:nvPr/>
          </p:nvGrpSpPr>
          <p:grpSpPr>
            <a:xfrm>
              <a:off x="214200" y="3000240"/>
              <a:ext cx="8501040" cy="2000520"/>
              <a:chOff x="214200" y="3000240"/>
              <a:chExt cx="8501040" cy="2000520"/>
            </a:xfrm>
          </p:grpSpPr>
          <p:grpSp>
            <p:nvGrpSpPr>
              <p:cNvPr id="803" name="그룹 91"/>
              <p:cNvGrpSpPr/>
              <p:nvPr/>
            </p:nvGrpSpPr>
            <p:grpSpPr>
              <a:xfrm>
                <a:off x="214200" y="3214440"/>
                <a:ext cx="8501040" cy="1786320"/>
                <a:chOff x="214200" y="3214440"/>
                <a:chExt cx="8501040" cy="1786320"/>
              </a:xfrm>
            </p:grpSpPr>
            <p:pic>
              <p:nvPicPr>
                <p:cNvPr id="8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14200" y="3214440"/>
                  <a:ext cx="8501040" cy="17863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5" name="직사각형 64"/>
                <p:cNvSpPr/>
                <p:nvPr/>
              </p:nvSpPr>
              <p:spPr>
                <a:xfrm>
                  <a:off x="1214280" y="34794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능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s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정과제의 해결에만 적용되는 요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일반요인으로 구성되는 단일능력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6" name="그룹 44"/>
              <p:cNvGrpSpPr/>
              <p:nvPr/>
            </p:nvGrpSpPr>
            <p:grpSpPr>
              <a:xfrm>
                <a:off x="856800" y="3000240"/>
                <a:ext cx="7574040" cy="551160"/>
                <a:chOff x="856800" y="3000240"/>
                <a:chExt cx="7574040" cy="551160"/>
              </a:xfrm>
            </p:grpSpPr>
            <p:grpSp>
              <p:nvGrpSpPr>
                <p:cNvPr id="807" name="그룹 91"/>
                <p:cNvGrpSpPr/>
                <p:nvPr/>
              </p:nvGrpSpPr>
              <p:grpSpPr>
                <a:xfrm>
                  <a:off x="856800" y="3000240"/>
                  <a:ext cx="2524680" cy="551160"/>
                  <a:chOff x="856800" y="3000240"/>
                  <a:chExt cx="2524680" cy="551160"/>
                </a:xfrm>
              </p:grpSpPr>
              <p:grpSp>
                <p:nvGrpSpPr>
                  <p:cNvPr id="808" name="그룹 34"/>
                  <p:cNvGrpSpPr/>
                  <p:nvPr/>
                </p:nvGrpSpPr>
                <p:grpSpPr>
                  <a:xfrm>
                    <a:off x="856800" y="3109680"/>
                    <a:ext cx="349200" cy="362160"/>
                    <a:chOff x="856800" y="3109680"/>
                    <a:chExt cx="349200" cy="362160"/>
                  </a:xfrm>
                </p:grpSpPr>
                <p:pic>
                  <p:nvPicPr>
                    <p:cNvPr id="8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56800" y="3114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10" name="TextBox 36"/>
                    <p:cNvSpPr/>
                    <p:nvPr/>
                  </p:nvSpPr>
                  <p:spPr>
                    <a:xfrm>
                      <a:off x="884880" y="3109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1" name="직사각형 60"/>
                  <p:cNvSpPr/>
                  <p:nvPr/>
                </p:nvSpPr>
                <p:spPr>
                  <a:xfrm>
                    <a:off x="1347840" y="3000240"/>
                    <a:ext cx="2033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이요인설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rearma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2" name="직선 연결선 58"/>
                <p:cNvSpPr/>
                <p:nvPr/>
              </p:nvSpPr>
              <p:spPr>
                <a:xfrm>
                  <a:off x="4212720" y="3286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3" name="타원 53"/>
            <p:cNvGrpSpPr/>
            <p:nvPr/>
          </p:nvGrpSpPr>
          <p:grpSpPr>
            <a:xfrm>
              <a:off x="993240" y="3645360"/>
              <a:ext cx="225360" cy="231480"/>
              <a:chOff x="993240" y="3645360"/>
              <a:chExt cx="225360" cy="231480"/>
            </a:xfrm>
          </p:grpSpPr>
          <p:pic>
            <p:nvPicPr>
              <p:cNvPr id="814" name="타원 53" descr=""/>
              <p:cNvPicPr/>
              <p:nvPr/>
            </p:nvPicPr>
            <p:blipFill>
              <a:blip r:embed="rId7"/>
              <a:stretch/>
            </p:blipFill>
            <p:spPr>
              <a:xfrm>
                <a:off x="993240" y="3645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5" name=""/>
              <p:cNvSpPr/>
              <p:nvPr/>
            </p:nvSpPr>
            <p:spPr>
              <a:xfrm rot="10800000">
                <a:off x="1073520" y="3702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타원 54"/>
            <p:cNvGrpSpPr/>
            <p:nvPr/>
          </p:nvGrpSpPr>
          <p:grpSpPr>
            <a:xfrm>
              <a:off x="993240" y="4645440"/>
              <a:ext cx="225360" cy="231480"/>
              <a:chOff x="993240" y="4645440"/>
              <a:chExt cx="225360" cy="231480"/>
            </a:xfrm>
          </p:grpSpPr>
          <p:pic>
            <p:nvPicPr>
              <p:cNvPr id="817" name="타원 54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4645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"/>
              <p:cNvSpPr/>
              <p:nvPr/>
            </p:nvSpPr>
            <p:spPr>
              <a:xfrm rot="10800000">
                <a:off x="1073520" y="4702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9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820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821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822" name="Picture 5" descr="233"/>
                <p:cNvPicPr/>
                <p:nvPr/>
              </p:nvPicPr>
              <p:blipFill>
                <a:blip r:embed="rId9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23" name="직사각형 7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상호독립적인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7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기초정신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825" name="그룹 91"/>
                <p:cNvGrpSpPr/>
                <p:nvPr/>
              </p:nvGrpSpPr>
              <p:grpSpPr>
                <a:xfrm>
                  <a:off x="856800" y="5143680"/>
                  <a:ext cx="2838600" cy="551160"/>
                  <a:chOff x="856800" y="5143680"/>
                  <a:chExt cx="2838600" cy="551160"/>
                </a:xfrm>
              </p:grpSpPr>
              <p:grpSp>
                <p:nvGrpSpPr>
                  <p:cNvPr id="826" name="그룹 34"/>
                  <p:cNvGrpSpPr/>
                  <p:nvPr/>
                </p:nvGrpSpPr>
                <p:grpSpPr>
                  <a:xfrm>
                    <a:off x="856800" y="5253120"/>
                    <a:ext cx="349200" cy="362520"/>
                    <a:chOff x="856800" y="5253120"/>
                    <a:chExt cx="349200" cy="362520"/>
                  </a:xfrm>
                </p:grpSpPr>
                <p:pic>
                  <p:nvPicPr>
                    <p:cNvPr id="827" name="Picture 177" descr="bull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56800" y="5260680"/>
                      <a:ext cx="349200" cy="35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8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9" name="직사각형 74"/>
                  <p:cNvSpPr/>
                  <p:nvPr/>
                </p:nvSpPr>
                <p:spPr>
                  <a:xfrm>
                    <a:off x="1439280" y="5143680"/>
                    <a:ext cx="2256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기초정신능력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Thurston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선 연결선 72"/>
                <p:cNvSpPr/>
                <p:nvPr/>
              </p:nvSpPr>
              <p:spPr>
                <a:xfrm>
                  <a:off x="4212720" y="5429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1" name="타원 67"/>
            <p:cNvGrpSpPr/>
            <p:nvPr/>
          </p:nvGrpSpPr>
          <p:grpSpPr>
            <a:xfrm>
              <a:off x="993240" y="5791320"/>
              <a:ext cx="225360" cy="231480"/>
              <a:chOff x="993240" y="5791320"/>
              <a:chExt cx="225360" cy="231480"/>
            </a:xfrm>
          </p:grpSpPr>
          <p:pic>
            <p:nvPicPr>
              <p:cNvPr id="832" name="타원 67" descr=""/>
              <p:cNvPicPr/>
              <p:nvPr/>
            </p:nvPicPr>
            <p:blipFill>
              <a:blip r:embed="rId11"/>
              <a:stretch/>
            </p:blipFill>
            <p:spPr>
              <a:xfrm>
                <a:off x="993240" y="5791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"/>
              <p:cNvSpPr/>
              <p:nvPr/>
            </p:nvSpPr>
            <p:spPr>
              <a:xfrm rot="10800000">
                <a:off x="1073520" y="58456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4" name="타원 45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835" name="타원 45" descr=""/>
            <p:cNvPicPr/>
            <p:nvPr/>
          </p:nvPicPr>
          <p:blipFill>
            <a:blip r:embed="rId12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직사각형 46"/>
          <p:cNvSpPr/>
          <p:nvPr/>
        </p:nvSpPr>
        <p:spPr>
          <a:xfrm>
            <a:off x="1214280" y="603252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이해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유창성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리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억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간지각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각속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리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39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70901-2E3B-4CE0-BDE7-EEEBE93F41F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그룹 37"/>
          <p:cNvGrpSpPr/>
          <p:nvPr/>
        </p:nvGrpSpPr>
        <p:grpSpPr>
          <a:xfrm>
            <a:off x="214200" y="1714680"/>
            <a:ext cx="8501040" cy="4251240"/>
            <a:chOff x="214200" y="1714680"/>
            <a:chExt cx="8501040" cy="4251240"/>
          </a:xfrm>
        </p:grpSpPr>
        <p:grpSp>
          <p:nvGrpSpPr>
            <p:cNvPr id="841" name="그룹 37"/>
            <p:cNvGrpSpPr/>
            <p:nvPr/>
          </p:nvGrpSpPr>
          <p:grpSpPr>
            <a:xfrm>
              <a:off x="214200" y="1714680"/>
              <a:ext cx="8501040" cy="4251240"/>
              <a:chOff x="214200" y="1714680"/>
              <a:chExt cx="8501040" cy="425124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14200" y="1928880"/>
                <a:ext cx="8501040" cy="4037040"/>
                <a:chOff x="214200" y="1928880"/>
                <a:chExt cx="8501040" cy="403704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928880"/>
                  <a:ext cx="8501040" cy="40370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28"/>
                <p:cNvSpPr/>
                <p:nvPr/>
              </p:nvSpPr>
              <p:spPr>
                <a:xfrm>
                  <a:off x="1214280" y="2193840"/>
                  <a:ext cx="7500960" cy="21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내용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조작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6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산출차원을 조합하여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만들어지는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150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본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그룹 44"/>
              <p:cNvGrpSpPr/>
              <p:nvPr/>
            </p:nvGrpSpPr>
            <p:grpSpPr>
              <a:xfrm>
                <a:off x="856800" y="1714680"/>
                <a:ext cx="7574040" cy="551160"/>
                <a:chOff x="856800" y="1714680"/>
                <a:chExt cx="7574040" cy="551160"/>
              </a:xfrm>
            </p:grpSpPr>
            <p:grpSp>
              <p:nvGrpSpPr>
                <p:cNvPr id="846" name="그룹 91"/>
                <p:cNvGrpSpPr/>
                <p:nvPr/>
              </p:nvGrpSpPr>
              <p:grpSpPr>
                <a:xfrm>
                  <a:off x="856800" y="1714680"/>
                  <a:ext cx="2628360" cy="551160"/>
                  <a:chOff x="856800" y="1714680"/>
                  <a:chExt cx="2628360" cy="551160"/>
                </a:xfrm>
              </p:grpSpPr>
              <p:grpSp>
                <p:nvGrpSpPr>
                  <p:cNvPr id="847" name="그룹 34"/>
                  <p:cNvGrpSpPr/>
                  <p:nvPr/>
                </p:nvGrpSpPr>
                <p:grpSpPr>
                  <a:xfrm>
                    <a:off x="856800" y="1824120"/>
                    <a:ext cx="349200" cy="362160"/>
                    <a:chOff x="856800" y="1824120"/>
                    <a:chExt cx="349200" cy="362160"/>
                  </a:xfrm>
                </p:grpSpPr>
                <p:pic>
                  <p:nvPicPr>
                    <p:cNvPr id="84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828440"/>
                      <a:ext cx="349200" cy="35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49" name="TextBox 36"/>
                    <p:cNvSpPr/>
                    <p:nvPr/>
                  </p:nvSpPr>
                  <p:spPr>
                    <a:xfrm>
                      <a:off x="884880" y="182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0" name="직사각형 24"/>
                  <p:cNvSpPr/>
                  <p:nvPr/>
                </p:nvSpPr>
                <p:spPr>
                  <a:xfrm>
                    <a:off x="1429920" y="1714680"/>
                    <a:ext cx="2055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지능구조모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uilfor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1" name="직선 연결선 22"/>
                <p:cNvSpPr/>
                <p:nvPr/>
              </p:nvSpPr>
              <p:spPr>
                <a:xfrm>
                  <a:off x="4212720" y="2000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2" name="타원 18"/>
            <p:cNvGrpSpPr/>
            <p:nvPr/>
          </p:nvGrpSpPr>
          <p:grpSpPr>
            <a:xfrm>
              <a:off x="993240" y="2359080"/>
              <a:ext cx="225360" cy="231480"/>
              <a:chOff x="993240" y="2359080"/>
              <a:chExt cx="225360" cy="231480"/>
            </a:xfrm>
          </p:grpSpPr>
          <p:pic>
            <p:nvPicPr>
              <p:cNvPr id="85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4" name=""/>
              <p:cNvSpPr/>
              <p:nvPr/>
            </p:nvSpPr>
            <p:spPr>
              <a:xfrm rot="10800000">
                <a:off x="107352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99"/>
          <p:cNvGrpSpPr/>
          <p:nvPr/>
        </p:nvGrpSpPr>
        <p:grpSpPr>
          <a:xfrm>
            <a:off x="4111560" y="2643120"/>
            <a:ext cx="4489920" cy="3101400"/>
            <a:chOff x="4111560" y="2643120"/>
            <a:chExt cx="4489920" cy="3101400"/>
          </a:xfrm>
        </p:grpSpPr>
        <p:pic>
          <p:nvPicPr>
            <p:cNvPr id="856" name="그림 75" descr="그림1.png"/>
            <p:cNvPicPr/>
            <p:nvPr/>
          </p:nvPicPr>
          <p:blipFill>
            <a:blip r:embed="rId5"/>
            <a:stretch/>
          </p:blipFill>
          <p:spPr>
            <a:xfrm>
              <a:off x="4111560" y="2747880"/>
              <a:ext cx="3596400" cy="18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Box 76"/>
            <p:cNvSpPr/>
            <p:nvPr/>
          </p:nvSpPr>
          <p:spPr>
            <a:xfrm>
              <a:off x="7788240" y="3586320"/>
              <a:ext cx="3484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유목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체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함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Box 77"/>
            <p:cNvSpPr/>
            <p:nvPr/>
          </p:nvSpPr>
          <p:spPr>
            <a:xfrm>
              <a:off x="6225120" y="2643120"/>
              <a:ext cx="156312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징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03"/>
            <p:cNvGrpSpPr/>
            <p:nvPr/>
          </p:nvGrpSpPr>
          <p:grpSpPr>
            <a:xfrm>
              <a:off x="5943600" y="4596120"/>
              <a:ext cx="1693440" cy="855360"/>
              <a:chOff x="5943600" y="4596120"/>
              <a:chExt cx="1693440" cy="855360"/>
            </a:xfrm>
          </p:grpSpPr>
          <p:sp>
            <p:nvSpPr>
              <p:cNvPr id="860" name="TextBox 94"/>
              <p:cNvSpPr/>
              <p:nvPr/>
            </p:nvSpPr>
            <p:spPr>
              <a:xfrm>
                <a:off x="594360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TextBox 95"/>
              <p:cNvSpPr/>
              <p:nvPr/>
            </p:nvSpPr>
            <p:spPr>
              <a:xfrm>
                <a:off x="630072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TextBox 96"/>
              <p:cNvSpPr/>
              <p:nvPr/>
            </p:nvSpPr>
            <p:spPr>
              <a:xfrm>
                <a:off x="66578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확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TextBox 97"/>
              <p:cNvSpPr/>
              <p:nvPr/>
            </p:nvSpPr>
            <p:spPr>
              <a:xfrm>
                <a:off x="701496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TextBox 98"/>
              <p:cNvSpPr/>
              <p:nvPr/>
            </p:nvSpPr>
            <p:spPr>
              <a:xfrm>
                <a:off x="73724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력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그룹 136"/>
            <p:cNvGrpSpPr/>
            <p:nvPr/>
          </p:nvGrpSpPr>
          <p:grpSpPr>
            <a:xfrm>
              <a:off x="6683400" y="2747880"/>
              <a:ext cx="1571400" cy="644400"/>
              <a:chOff x="6683400" y="2747880"/>
              <a:chExt cx="1571400" cy="644400"/>
            </a:xfrm>
          </p:grpSpPr>
          <p:sp>
            <p:nvSpPr>
              <p:cNvPr id="866" name="직선 연결선 91"/>
              <p:cNvSpPr/>
              <p:nvPr/>
            </p:nvSpPr>
            <p:spPr>
              <a:xfrm>
                <a:off x="6683400" y="274788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직선 연결선 92"/>
              <p:cNvSpPr/>
              <p:nvPr/>
            </p:nvSpPr>
            <p:spPr>
              <a:xfrm flipH="1" flipV="1">
                <a:off x="7111440" y="2747880"/>
                <a:ext cx="1143000" cy="64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직선 연결선 93"/>
              <p:cNvSpPr/>
              <p:nvPr/>
            </p:nvSpPr>
            <p:spPr>
              <a:xfrm>
                <a:off x="7826400" y="339084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그룹 135"/>
            <p:cNvGrpSpPr/>
            <p:nvPr/>
          </p:nvGrpSpPr>
          <p:grpSpPr>
            <a:xfrm>
              <a:off x="8183520" y="3676680"/>
              <a:ext cx="214920" cy="858960"/>
              <a:chOff x="8183520" y="3676680"/>
              <a:chExt cx="214920" cy="858960"/>
            </a:xfrm>
          </p:grpSpPr>
          <p:sp>
            <p:nvSpPr>
              <p:cNvPr id="870" name="직선 연결선 88"/>
              <p:cNvSpPr/>
              <p:nvPr/>
            </p:nvSpPr>
            <p:spPr>
              <a:xfrm>
                <a:off x="8183520" y="367668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89"/>
              <p:cNvSpPr/>
              <p:nvPr/>
            </p:nvSpPr>
            <p:spPr>
              <a:xfrm>
                <a:off x="8183520" y="453420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직선 연결선 90"/>
              <p:cNvSpPr/>
              <p:nvPr/>
            </p:nvSpPr>
            <p:spPr>
              <a:xfrm flipH="1">
                <a:off x="8397000" y="3677400"/>
                <a:ext cx="1440" cy="85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TextBox 82"/>
            <p:cNvSpPr/>
            <p:nvPr/>
          </p:nvSpPr>
          <p:spPr>
            <a:xfrm>
              <a:off x="8207280" y="39686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산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4" name="그룹 137"/>
            <p:cNvGrpSpPr/>
            <p:nvPr/>
          </p:nvGrpSpPr>
          <p:grpSpPr>
            <a:xfrm>
              <a:off x="6110640" y="5490000"/>
              <a:ext cx="1415880" cy="137880"/>
              <a:chOff x="6110640" y="5490000"/>
              <a:chExt cx="1415880" cy="137880"/>
            </a:xfrm>
          </p:grpSpPr>
          <p:sp>
            <p:nvSpPr>
              <p:cNvPr id="875" name="직선 연결선 85"/>
              <p:cNvSpPr/>
              <p:nvPr/>
            </p:nvSpPr>
            <p:spPr>
              <a:xfrm flipH="1">
                <a:off x="752400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직선 연결선 86"/>
              <p:cNvSpPr/>
              <p:nvPr/>
            </p:nvSpPr>
            <p:spPr>
              <a:xfrm flipH="1">
                <a:off x="611064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87"/>
              <p:cNvSpPr/>
              <p:nvPr/>
            </p:nvSpPr>
            <p:spPr>
              <a:xfrm flipH="1" flipV="1">
                <a:off x="6112080" y="5627160"/>
                <a:ext cx="14133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8" name="TextBox 84"/>
            <p:cNvSpPr/>
            <p:nvPr/>
          </p:nvSpPr>
          <p:spPr>
            <a:xfrm>
              <a:off x="6654240" y="54374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Box 79"/>
            <p:cNvSpPr/>
            <p:nvPr/>
          </p:nvSpPr>
          <p:spPr>
            <a:xfrm>
              <a:off x="7461000" y="289080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타원 49"/>
          <p:cNvGrpSpPr/>
          <p:nvPr/>
        </p:nvGrpSpPr>
        <p:grpSpPr>
          <a:xfrm>
            <a:off x="933480" y="4668840"/>
            <a:ext cx="225360" cy="231840"/>
            <a:chOff x="933480" y="4668840"/>
            <a:chExt cx="225360" cy="231840"/>
          </a:xfrm>
        </p:grpSpPr>
        <p:pic>
          <p:nvPicPr>
            <p:cNvPr id="881" name="타원 49" descr=""/>
            <p:cNvPicPr/>
            <p:nvPr/>
          </p:nvPicPr>
          <p:blipFill>
            <a:blip r:embed="rId6"/>
            <a:stretch/>
          </p:blipFill>
          <p:spPr>
            <a:xfrm>
              <a:off x="933480" y="4668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 rot="10800000">
              <a:off x="1014480" y="472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직사각형 50"/>
          <p:cNvSpPr/>
          <p:nvPr/>
        </p:nvSpPr>
        <p:spPr>
          <a:xfrm>
            <a:off x="1214280" y="4500720"/>
            <a:ext cx="36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용 측면에서 의미적 내용에 치중한 반면 나머지 내용은 상대적으로 등안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85" name="슬라이드 번호 개체 틀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11FE1-C003-4B69-92B5-5BE0B684BB8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그룹 37"/>
          <p:cNvGrpSpPr/>
          <p:nvPr/>
        </p:nvGrpSpPr>
        <p:grpSpPr>
          <a:xfrm>
            <a:off x="214200" y="1643040"/>
            <a:ext cx="8501040" cy="4500720"/>
            <a:chOff x="214200" y="1643040"/>
            <a:chExt cx="8501040" cy="4500720"/>
          </a:xfrm>
        </p:grpSpPr>
        <p:grpSp>
          <p:nvGrpSpPr>
            <p:cNvPr id="887" name="그룹 37"/>
            <p:cNvGrpSpPr/>
            <p:nvPr/>
          </p:nvGrpSpPr>
          <p:grpSpPr>
            <a:xfrm>
              <a:off x="214200" y="1643040"/>
              <a:ext cx="8501040" cy="4500720"/>
              <a:chOff x="214200" y="1643040"/>
              <a:chExt cx="8501040" cy="4500720"/>
            </a:xfrm>
          </p:grpSpPr>
          <p:grpSp>
            <p:nvGrpSpPr>
              <p:cNvPr id="888" name="그룹 91"/>
              <p:cNvGrpSpPr/>
              <p:nvPr/>
            </p:nvGrpSpPr>
            <p:grpSpPr>
              <a:xfrm>
                <a:off x="214200" y="1714320"/>
                <a:ext cx="8501040" cy="4429440"/>
                <a:chOff x="214200" y="1714320"/>
                <a:chExt cx="8501040" cy="4429440"/>
              </a:xfrm>
            </p:grpSpPr>
            <p:pic>
              <p:nvPicPr>
                <p:cNvPr id="88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714320"/>
                  <a:ext cx="8501040" cy="44294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90" name="직사각형 27"/>
                <p:cNvSpPr/>
                <p:nvPr/>
              </p:nvSpPr>
              <p:spPr>
                <a:xfrm>
                  <a:off x="1214280" y="21222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을 구성하는 요인들이 위계를 이루고 있다고 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그룹 44"/>
              <p:cNvGrpSpPr/>
              <p:nvPr/>
            </p:nvGrpSpPr>
            <p:grpSpPr>
              <a:xfrm>
                <a:off x="856800" y="1643040"/>
                <a:ext cx="7574040" cy="551160"/>
                <a:chOff x="856800" y="1643040"/>
                <a:chExt cx="7574040" cy="551160"/>
              </a:xfrm>
            </p:grpSpPr>
            <p:grpSp>
              <p:nvGrpSpPr>
                <p:cNvPr id="892" name="그룹 91"/>
                <p:cNvGrpSpPr/>
                <p:nvPr/>
              </p:nvGrpSpPr>
              <p:grpSpPr>
                <a:xfrm>
                  <a:off x="856800" y="1643040"/>
                  <a:ext cx="1542960" cy="551160"/>
                  <a:chOff x="856800" y="1643040"/>
                  <a:chExt cx="1542960" cy="551160"/>
                </a:xfrm>
              </p:grpSpPr>
              <p:grpSp>
                <p:nvGrpSpPr>
                  <p:cNvPr id="893" name="그룹 34"/>
                  <p:cNvGrpSpPr/>
                  <p:nvPr/>
                </p:nvGrpSpPr>
                <p:grpSpPr>
                  <a:xfrm>
                    <a:off x="856800" y="1752480"/>
                    <a:ext cx="349200" cy="361800"/>
                    <a:chOff x="856800" y="1752480"/>
                    <a:chExt cx="349200" cy="361800"/>
                  </a:xfrm>
                </p:grpSpPr>
                <p:pic>
                  <p:nvPicPr>
                    <p:cNvPr id="89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76112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95" name="TextBox 36"/>
                    <p:cNvSpPr/>
                    <p:nvPr/>
                  </p:nvSpPr>
                  <p:spPr>
                    <a:xfrm>
                      <a:off x="88488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6" name="직사각형 23"/>
                  <p:cNvSpPr/>
                  <p:nvPr/>
                </p:nvSpPr>
                <p:spPr>
                  <a:xfrm>
                    <a:off x="1391400" y="1643040"/>
                    <a:ext cx="10083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위계적 모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7" name="직선 연결선 21"/>
                <p:cNvSpPr/>
                <p:nvPr/>
              </p:nvSpPr>
              <p:spPr>
                <a:xfrm>
                  <a:off x="4212720" y="19288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8" name="타원 17"/>
            <p:cNvGrpSpPr/>
            <p:nvPr/>
          </p:nvGrpSpPr>
          <p:grpSpPr>
            <a:xfrm>
              <a:off x="993240" y="2286000"/>
              <a:ext cx="225360" cy="231480"/>
              <a:chOff x="993240" y="2286000"/>
              <a:chExt cx="225360" cy="231480"/>
            </a:xfrm>
          </p:grpSpPr>
          <p:pic>
            <p:nvPicPr>
              <p:cNvPr id="899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0" name=""/>
              <p:cNvSpPr/>
              <p:nvPr/>
            </p:nvSpPr>
            <p:spPr>
              <a:xfrm rot="10800000">
                <a:off x="107352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1" name="그룹 30"/>
          <p:cNvGrpSpPr/>
          <p:nvPr/>
        </p:nvGrpSpPr>
        <p:grpSpPr>
          <a:xfrm>
            <a:off x="654480" y="3786120"/>
            <a:ext cx="7775280" cy="2058480"/>
            <a:chOff x="654480" y="3786120"/>
            <a:chExt cx="7775280" cy="2058480"/>
          </a:xfrm>
        </p:grpSpPr>
        <p:grpSp>
          <p:nvGrpSpPr>
            <p:cNvPr id="902" name="그룹 142"/>
            <p:cNvGrpSpPr/>
            <p:nvPr/>
          </p:nvGrpSpPr>
          <p:grpSpPr>
            <a:xfrm>
              <a:off x="654480" y="3786120"/>
              <a:ext cx="3989160" cy="551160"/>
              <a:chOff x="654480" y="3786120"/>
              <a:chExt cx="3989160" cy="551160"/>
            </a:xfrm>
          </p:grpSpPr>
          <p:grpSp>
            <p:nvGrpSpPr>
              <p:cNvPr id="903" name="그룹 97"/>
              <p:cNvGrpSpPr/>
              <p:nvPr/>
            </p:nvGrpSpPr>
            <p:grpSpPr>
              <a:xfrm>
                <a:off x="654480" y="3901320"/>
                <a:ext cx="340920" cy="307080"/>
                <a:chOff x="654480" y="3901320"/>
                <a:chExt cx="340920" cy="307080"/>
              </a:xfrm>
            </p:grpSpPr>
            <p:pic>
              <p:nvPicPr>
                <p:cNvPr id="904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76440" y="391932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TextBox 146"/>
                <p:cNvSpPr/>
                <p:nvPr/>
              </p:nvSpPr>
              <p:spPr>
                <a:xfrm>
                  <a:off x="654480" y="390132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6" name="직사각형 36"/>
              <p:cNvSpPr/>
              <p:nvPr/>
            </p:nvSpPr>
            <p:spPr>
              <a:xfrm>
                <a:off x="811080" y="3786120"/>
                <a:ext cx="38325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이론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attell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직선 연결선 30"/>
            <p:cNvSpPr/>
            <p:nvPr/>
          </p:nvSpPr>
          <p:spPr>
            <a:xfrm>
              <a:off x="4843440" y="4071600"/>
              <a:ext cx="35863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그룹 114"/>
            <p:cNvGrpSpPr/>
            <p:nvPr/>
          </p:nvGrpSpPr>
          <p:grpSpPr>
            <a:xfrm>
              <a:off x="1038240" y="4241880"/>
              <a:ext cx="7377480" cy="1602720"/>
              <a:chOff x="1038240" y="4241880"/>
              <a:chExt cx="7377480" cy="1602720"/>
            </a:xfrm>
          </p:grpSpPr>
          <p:sp>
            <p:nvSpPr>
              <p:cNvPr id="909" name="직사각형 37"/>
              <p:cNvSpPr/>
              <p:nvPr/>
            </p:nvSpPr>
            <p:spPr>
              <a:xfrm>
                <a:off x="1243080" y="4241880"/>
                <a:ext cx="7172640" cy="160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rystalized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경험이나 교육의 영향을 받아 획득한 능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휘이해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리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luid 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생물학적으로 결정되는 생리적 및 신경적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유추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상적 관계이해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타원 33"/>
              <p:cNvGrpSpPr/>
              <p:nvPr/>
            </p:nvGrpSpPr>
            <p:grpSpPr>
              <a:xfrm>
                <a:off x="1038240" y="4388760"/>
                <a:ext cx="223200" cy="231480"/>
                <a:chOff x="1038240" y="4388760"/>
                <a:chExt cx="223200" cy="231480"/>
              </a:xfrm>
            </p:grpSpPr>
            <p:pic>
              <p:nvPicPr>
                <p:cNvPr id="911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38240" y="438876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 rot="10800000">
                  <a:off x="1120320" y="4443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3" name="타원 34"/>
              <p:cNvGrpSpPr/>
              <p:nvPr/>
            </p:nvGrpSpPr>
            <p:grpSpPr>
              <a:xfrm>
                <a:off x="1038240" y="5218200"/>
                <a:ext cx="223200" cy="231480"/>
                <a:chOff x="1038240" y="5218200"/>
                <a:chExt cx="223200" cy="231480"/>
              </a:xfrm>
            </p:grpSpPr>
            <p:pic>
              <p:nvPicPr>
                <p:cNvPr id="914" name="타원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3824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5" name=""/>
                <p:cNvSpPr/>
                <p:nvPr/>
              </p:nvSpPr>
              <p:spPr>
                <a:xfrm rot="10800000">
                  <a:off x="1120320" y="52740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16" name="타원 35"/>
          <p:cNvGrpSpPr/>
          <p:nvPr/>
        </p:nvGrpSpPr>
        <p:grpSpPr>
          <a:xfrm>
            <a:off x="1006560" y="2932200"/>
            <a:ext cx="225360" cy="231840"/>
            <a:chOff x="1006560" y="2932200"/>
            <a:chExt cx="225360" cy="231840"/>
          </a:xfrm>
        </p:grpSpPr>
        <p:pic>
          <p:nvPicPr>
            <p:cNvPr id="917" name="타원 35" descr=""/>
            <p:cNvPicPr/>
            <p:nvPr/>
          </p:nvPicPr>
          <p:blipFill>
            <a:blip r:embed="rId8"/>
            <a:stretch/>
          </p:blipFill>
          <p:spPr>
            <a:xfrm>
              <a:off x="1006560" y="2932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 rot="10800000">
              <a:off x="1085760" y="29876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직사각형 38"/>
          <p:cNvSpPr/>
          <p:nvPr/>
        </p:nvSpPr>
        <p:spPr>
          <a:xfrm>
            <a:off x="1214280" y="271944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Veron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상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교육적 능력과 수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계적 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하위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능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21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363E8-734E-40F0-8387-9EB64911623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923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924" name="직사각형 16"/>
              <p:cNvSpPr/>
              <p:nvPr/>
            </p:nvSpPr>
            <p:spPr>
              <a:xfrm>
                <a:off x="1468440" y="1386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927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8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9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0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1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33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35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attention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와 각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의식적으로 선택하는 과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시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imultaneous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한 정보를 한꺼번에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속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ccessive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순서대로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획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lann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위계획을 수립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천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 효과를 평가하는 과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적 결손을 나타내는 아동을 진단하여 교정할 수 있는 방식을 제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4"/>
            <p:cNvGrpSpPr/>
            <p:nvPr/>
          </p:nvGrpSpPr>
          <p:grpSpPr>
            <a:xfrm>
              <a:off x="856800" y="2071800"/>
              <a:ext cx="7574400" cy="551160"/>
              <a:chOff x="856800" y="2071800"/>
              <a:chExt cx="7574400" cy="551160"/>
            </a:xfrm>
          </p:grpSpPr>
          <p:grpSp>
            <p:nvGrpSpPr>
              <p:cNvPr id="937" name="그룹 91"/>
              <p:cNvGrpSpPr/>
              <p:nvPr/>
            </p:nvGrpSpPr>
            <p:grpSpPr>
              <a:xfrm>
                <a:off x="856800" y="2071800"/>
                <a:ext cx="1607760" cy="551160"/>
                <a:chOff x="856800" y="2071800"/>
                <a:chExt cx="1607760" cy="551160"/>
              </a:xfrm>
            </p:grpSpPr>
            <p:grpSp>
              <p:nvGrpSpPr>
                <p:cNvPr id="938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3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0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1" name="직사각형 26"/>
                <p:cNvSpPr/>
                <p:nvPr/>
              </p:nvSpPr>
              <p:spPr>
                <a:xfrm>
                  <a:off x="1254960" y="2071800"/>
                  <a:ext cx="12096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PASS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이론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2" name="직선 연결선 24"/>
              <p:cNvSpPr/>
              <p:nvPr/>
            </p:nvSpPr>
            <p:spPr>
              <a:xfrm>
                <a:off x="4213080" y="2357640"/>
                <a:ext cx="4218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3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44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5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47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50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53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4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56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66FC6-D294-4E53-AA5C-7B51C0F76C0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58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59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0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기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적 기억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풍부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속도가 빠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 용량이 크다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메타인지 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1" name="그룹 44"/>
            <p:cNvGrpSpPr/>
            <p:nvPr/>
          </p:nvGrpSpPr>
          <p:grpSpPr>
            <a:xfrm>
              <a:off x="856800" y="2071800"/>
              <a:ext cx="7715520" cy="551160"/>
              <a:chOff x="856800" y="2071800"/>
              <a:chExt cx="7715520" cy="551160"/>
            </a:xfrm>
          </p:grpSpPr>
          <p:grpSp>
            <p:nvGrpSpPr>
              <p:cNvPr id="962" name="그룹 91"/>
              <p:cNvGrpSpPr/>
              <p:nvPr/>
            </p:nvGrpSpPr>
            <p:grpSpPr>
              <a:xfrm>
                <a:off x="856800" y="2071800"/>
                <a:ext cx="3527640" cy="551160"/>
                <a:chOff x="856800" y="2071800"/>
                <a:chExt cx="3527640" cy="551160"/>
              </a:xfrm>
            </p:grpSpPr>
            <p:grpSp>
              <p:nvGrpSpPr>
                <p:cNvPr id="963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64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5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6" name="직사각형 26"/>
                <p:cNvSpPr/>
                <p:nvPr/>
              </p:nvSpPr>
              <p:spPr>
                <a:xfrm>
                  <a:off x="1894680" y="2071800"/>
                  <a:ext cx="248976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지능 수준에 따른 인지과정 차이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7" name="직선 연결선 24"/>
              <p:cNvSpPr/>
              <p:nvPr/>
            </p:nvSpPr>
            <p:spPr>
              <a:xfrm>
                <a:off x="5213160" y="2357280"/>
                <a:ext cx="335916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8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69" name="Picture 177" descr="bull"/>
            <p:cNvPicPr/>
            <p:nvPr/>
          </p:nvPicPr>
          <p:blipFill>
            <a:blip r:embed="rId4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72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75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78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그룹 97"/>
          <p:cNvGrpSpPr/>
          <p:nvPr/>
        </p:nvGrpSpPr>
        <p:grpSpPr>
          <a:xfrm>
            <a:off x="779040" y="5500800"/>
            <a:ext cx="295200" cy="337320"/>
            <a:chOff x="779040" y="5500800"/>
            <a:chExt cx="295200" cy="337320"/>
          </a:xfrm>
        </p:grpSpPr>
        <p:pic>
          <p:nvPicPr>
            <p:cNvPr id="981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5547240"/>
              <a:ext cx="28368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TextBox 146"/>
            <p:cNvSpPr/>
            <p:nvPr/>
          </p:nvSpPr>
          <p:spPr>
            <a:xfrm>
              <a:off x="779040" y="5500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984" name="그룹 45"/>
          <p:cNvGrpSpPr/>
          <p:nvPr/>
        </p:nvGrpSpPr>
        <p:grpSpPr>
          <a:xfrm>
            <a:off x="785880" y="3429000"/>
            <a:ext cx="7570800" cy="2970360"/>
            <a:chOff x="785880" y="3429000"/>
            <a:chExt cx="7570800" cy="2970360"/>
          </a:xfrm>
        </p:grpSpPr>
        <p:sp>
          <p:nvSpPr>
            <p:cNvPr id="985" name="Rectangle 76"/>
            <p:cNvSpPr/>
            <p:nvPr/>
          </p:nvSpPr>
          <p:spPr>
            <a:xfrm>
              <a:off x="785880" y="3429000"/>
              <a:ext cx="7570800" cy="2970360"/>
            </a:xfrm>
            <a:prstGeom prst="rect">
              <a:avLst/>
            </a:prstGeom>
            <a:gradFill rotWithShape="0">
              <a:gsLst>
                <a:gs pos="0">
                  <a:srgbClr val="fdfdfd"/>
                </a:gs>
                <a:gs pos="100000">
                  <a:srgbClr val="c9c5c4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50040" bIns="50040" anchor="ctr">
              <a:noAutofit/>
            </a:bodyPr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그룹 37"/>
            <p:cNvGrpSpPr/>
            <p:nvPr/>
          </p:nvGrpSpPr>
          <p:grpSpPr>
            <a:xfrm>
              <a:off x="1129320" y="3523320"/>
              <a:ext cx="6919200" cy="2844720"/>
              <a:chOff x="1129320" y="3523320"/>
              <a:chExt cx="6919200" cy="2844720"/>
            </a:xfrm>
          </p:grpSpPr>
          <p:sp>
            <p:nvSpPr>
              <p:cNvPr id="987" name="Line 3"/>
              <p:cNvSpPr/>
              <p:nvPr/>
            </p:nvSpPr>
            <p:spPr>
              <a:xfrm>
                <a:off x="2151720" y="45082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4"/>
              <p:cNvSpPr/>
              <p:nvPr/>
            </p:nvSpPr>
            <p:spPr>
              <a:xfrm>
                <a:off x="2151720" y="50914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Line 5"/>
              <p:cNvSpPr/>
              <p:nvPr/>
            </p:nvSpPr>
            <p:spPr>
              <a:xfrm>
                <a:off x="2151720" y="564444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Line 6"/>
              <p:cNvSpPr/>
              <p:nvPr/>
            </p:nvSpPr>
            <p:spPr>
              <a:xfrm>
                <a:off x="2151720" y="614520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7"/>
              <p:cNvSpPr/>
              <p:nvPr/>
            </p:nvSpPr>
            <p:spPr>
              <a:xfrm>
                <a:off x="2160360" y="392292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AutoShape 8"/>
              <p:cNvSpPr/>
              <p:nvPr/>
            </p:nvSpPr>
            <p:spPr>
              <a:xfrm>
                <a:off x="1293480" y="5345640"/>
                <a:ext cx="1361520" cy="1022400"/>
              </a:xfrm>
              <a:prstGeom prst="diamond">
                <a:avLst/>
              </a:prstGeom>
              <a:gradFill rotWithShape="0">
                <a:gsLst>
                  <a:gs pos="0">
                    <a:srgbClr val="767647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AutoShape 9"/>
              <p:cNvSpPr/>
              <p:nvPr/>
            </p:nvSpPr>
            <p:spPr>
              <a:xfrm>
                <a:off x="1273320" y="4758840"/>
                <a:ext cx="1423440" cy="1160640"/>
              </a:xfrm>
              <a:prstGeom prst="diamond">
                <a:avLst/>
              </a:prstGeom>
              <a:gradFill rotWithShape="0">
                <a:gsLst>
                  <a:gs pos="0">
                    <a:srgbClr val="5e7647"/>
                  </a:gs>
                  <a:gs pos="100000">
                    <a:srgbClr val="cc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AutoShape 10"/>
              <p:cNvSpPr/>
              <p:nvPr/>
            </p:nvSpPr>
            <p:spPr>
              <a:xfrm>
                <a:off x="1221480" y="4155840"/>
                <a:ext cx="1527480" cy="1190520"/>
              </a:xfrm>
              <a:prstGeom prst="diamond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99ffcc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AutoShape 11"/>
              <p:cNvSpPr/>
              <p:nvPr/>
            </p:nvSpPr>
            <p:spPr>
              <a:xfrm>
                <a:off x="1182600" y="3523320"/>
                <a:ext cx="1609560" cy="1254240"/>
              </a:xfrm>
              <a:prstGeom prst="diamond">
                <a:avLst/>
              </a:prstGeom>
              <a:gradFill rotWithShape="0">
                <a:gsLst>
                  <a:gs pos="0">
                    <a:srgbClr val="2f7676"/>
                  </a:gs>
                  <a:gs pos="100000">
                    <a:srgbClr val="66fff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12"/>
              <p:cNvSpPr/>
              <p:nvPr/>
            </p:nvSpPr>
            <p:spPr>
              <a:xfrm>
                <a:off x="1129320" y="3614040"/>
                <a:ext cx="872640" cy="2696760"/>
              </a:xfrm>
              <a:prstGeom prst="pie">
                <a:avLst/>
              </a:prstGeom>
              <a:solidFill>
                <a:srgbClr val="c0c0c0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13"/>
              <p:cNvSpPr/>
              <p:nvPr/>
            </p:nvSpPr>
            <p:spPr>
              <a:xfrm>
                <a:off x="1978920" y="3614040"/>
                <a:ext cx="865440" cy="2696760"/>
              </a:xfrm>
              <a:prstGeom prst="pie">
                <a:avLst/>
              </a:prstGeom>
              <a:solidFill>
                <a:srgbClr val="c0c0c0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Rectangle 22"/>
              <p:cNvSpPr/>
              <p:nvPr/>
            </p:nvSpPr>
            <p:spPr>
              <a:xfrm>
                <a:off x="3630240" y="3593880"/>
                <a:ext cx="372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들은 상호독립적이며 각 지능의 상대적 중요성은 같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Rectangle 23"/>
              <p:cNvSpPr/>
              <p:nvPr/>
            </p:nvSpPr>
            <p:spPr>
              <a:xfrm>
                <a:off x="3357000" y="4178160"/>
                <a:ext cx="2657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문화의존적이고 상황의존적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Rectangle 24"/>
              <p:cNvSpPr/>
              <p:nvPr/>
            </p:nvSpPr>
            <p:spPr>
              <a:xfrm>
                <a:off x="3601080" y="4779720"/>
                <a:ext cx="3519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교육 및 훈련을 통해 상당 부분 촉진할 수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Rectangle 25"/>
              <p:cNvSpPr/>
              <p:nvPr/>
            </p:nvSpPr>
            <p:spPr>
              <a:xfrm>
                <a:off x="3445560" y="5322960"/>
                <a:ext cx="396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육에서는 사회에서 중시되는 다양한 능력을 길러주어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Rectangle 26"/>
              <p:cNvSpPr/>
              <p:nvPr/>
            </p:nvSpPr>
            <p:spPr>
              <a:xfrm>
                <a:off x="3333960" y="5823720"/>
                <a:ext cx="2642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과를 다양한 방식으로 가르쳐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3" name="슬라이드 번호 개체 틀 2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AB327-EA48-4AEB-8A89-725255DA955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05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06" name="직사각형 31"/>
              <p:cNvSpPr/>
              <p:nvPr/>
            </p:nvSpPr>
            <p:spPr>
              <a:xfrm>
                <a:off x="1566000" y="1386360"/>
                <a:ext cx="49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다중지능 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ultiple intelligences theory, Gardn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8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09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0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2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3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그룹 43"/>
          <p:cNvGrpSpPr/>
          <p:nvPr/>
        </p:nvGrpSpPr>
        <p:grpSpPr>
          <a:xfrm>
            <a:off x="571680" y="1811160"/>
            <a:ext cx="8072280" cy="1487520"/>
            <a:chOff x="571680" y="1811160"/>
            <a:chExt cx="8072280" cy="1487520"/>
          </a:xfrm>
        </p:grpSpPr>
        <p:pic>
          <p:nvPicPr>
            <p:cNvPr id="101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11160"/>
              <a:ext cx="8072280" cy="148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16" name="타원 3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17" name="타원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36"/>
            <p:cNvSpPr/>
            <p:nvPr/>
          </p:nvSpPr>
          <p:spPr>
            <a:xfrm>
              <a:off x="928800" y="1999800"/>
              <a:ext cx="766908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 상호독립적인 여러 지능들로 구성된다고 주장하는 이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논리수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체운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음악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인관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내적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연관찰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AutoShape 4"/>
          <p:cNvSpPr/>
          <p:nvPr/>
        </p:nvSpPr>
        <p:spPr>
          <a:xfrm>
            <a:off x="428760" y="3857760"/>
            <a:ext cx="2692440" cy="2571480"/>
          </a:xfrm>
          <a:prstGeom prst="roundRect">
            <a:avLst>
              <a:gd name="adj" fmla="val 8500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분석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해결을 계획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가하는 고등정신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행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의 지시를 받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획득 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할 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있는 방법을 학습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22" name="AutoShape 4"/>
          <p:cNvSpPr/>
          <p:nvPr/>
        </p:nvSpPr>
        <p:spPr>
          <a:xfrm>
            <a:off x="6143760" y="4105440"/>
            <a:ext cx="2692440" cy="2323800"/>
          </a:xfrm>
          <a:prstGeom prst="roundRect">
            <a:avLst>
              <a:gd name="adj" fmla="val 6926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144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실용적 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 환경에 적응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환경을 변형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환경을 선택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4"/>
          <p:cNvSpPr/>
          <p:nvPr/>
        </p:nvSpPr>
        <p:spPr>
          <a:xfrm>
            <a:off x="3286080" y="4786200"/>
            <a:ext cx="2692440" cy="1643040"/>
          </a:xfrm>
          <a:prstGeom prst="roundRect">
            <a:avLst>
              <a:gd name="adj" fmla="val 8009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88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창의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비교적 새로운 문제를 해결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보처리를 자동화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슬라이드 번호 개체 틀 27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C5872-1669-413A-9610-379A847B8C9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2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27" name="직사각형 34"/>
              <p:cNvSpPr/>
              <p:nvPr/>
            </p:nvSpPr>
            <p:spPr>
              <a:xfrm>
                <a:off x="1710720" y="1386360"/>
                <a:ext cx="328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공지능에 대한 삼원이론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ernberg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3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3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03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37" name="타원 3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38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0" name="직사각형 39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란 적합한 환경을 선택하거나 변형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환경에 적응하는 능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공지능은 분석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창의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용적 능력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1" name="타원 40"/>
            <p:cNvGrpSpPr/>
            <p:nvPr/>
          </p:nvGrpSpPr>
          <p:grpSpPr>
            <a:xfrm>
              <a:off x="859680" y="2602800"/>
              <a:ext cx="225360" cy="231480"/>
              <a:chOff x="859680" y="2602800"/>
              <a:chExt cx="225360" cy="231480"/>
            </a:xfrm>
          </p:grpSpPr>
          <p:pic>
            <p:nvPicPr>
              <p:cNvPr id="1042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859680" y="2602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3" name=""/>
              <p:cNvSpPr/>
              <p:nvPr/>
            </p:nvSpPr>
            <p:spPr>
              <a:xfrm rot="10800000">
                <a:off x="943200" y="265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4" name="그룹 41"/>
          <p:cNvGrpSpPr/>
          <p:nvPr/>
        </p:nvGrpSpPr>
        <p:grpSpPr>
          <a:xfrm>
            <a:off x="2198520" y="3306600"/>
            <a:ext cx="4714920" cy="1622520"/>
            <a:chOff x="2198520" y="3306600"/>
            <a:chExt cx="4714920" cy="1622520"/>
          </a:xfrm>
        </p:grpSpPr>
        <p:sp>
          <p:nvSpPr>
            <p:cNvPr id="1045" name="AutoShape 21"/>
            <p:cNvSpPr/>
            <p:nvPr/>
          </p:nvSpPr>
          <p:spPr>
            <a:xfrm flipV="1">
              <a:off x="2694600" y="3718080"/>
              <a:ext cx="3722400" cy="9889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9291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그룹 42"/>
            <p:cNvGrpSpPr/>
            <p:nvPr/>
          </p:nvGrpSpPr>
          <p:grpSpPr>
            <a:xfrm>
              <a:off x="4041720" y="4104000"/>
              <a:ext cx="1031400" cy="825120"/>
              <a:chOff x="4041720" y="4104000"/>
              <a:chExt cx="1031400" cy="825120"/>
            </a:xfrm>
          </p:grpSpPr>
          <p:grpSp>
            <p:nvGrpSpPr>
              <p:cNvPr id="1047" name="Group 5"/>
              <p:cNvGrpSpPr/>
              <p:nvPr/>
            </p:nvGrpSpPr>
            <p:grpSpPr>
              <a:xfrm>
                <a:off x="4041720" y="4104000"/>
                <a:ext cx="1031400" cy="825120"/>
                <a:chOff x="4041720" y="4104000"/>
                <a:chExt cx="1031400" cy="825120"/>
              </a:xfrm>
            </p:grpSpPr>
            <p:sp>
              <p:nvSpPr>
                <p:cNvPr id="1048" name="AutoShape 6"/>
                <p:cNvSpPr/>
                <p:nvPr/>
              </p:nvSpPr>
              <p:spPr>
                <a:xfrm>
                  <a:off x="4050000" y="413028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AutoShape 7"/>
                <p:cNvSpPr/>
                <p:nvPr/>
              </p:nvSpPr>
              <p:spPr>
                <a:xfrm>
                  <a:off x="4041720" y="410400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AutoShape 8"/>
                <p:cNvSpPr/>
                <p:nvPr/>
              </p:nvSpPr>
              <p:spPr>
                <a:xfrm>
                  <a:off x="4101480" y="41518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7262ec"/>
                    </a:gs>
                    <a:gs pos="100000">
                      <a:srgbClr val="2614aa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Text Box 17"/>
              <p:cNvSpPr/>
              <p:nvPr/>
            </p:nvSpPr>
            <p:spPr>
              <a:xfrm>
                <a:off x="4181760" y="42487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경험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3"/>
            <p:cNvGrpSpPr/>
            <p:nvPr/>
          </p:nvGrpSpPr>
          <p:grpSpPr>
            <a:xfrm>
              <a:off x="2198520" y="3306600"/>
              <a:ext cx="1031400" cy="812160"/>
              <a:chOff x="2198520" y="3306600"/>
              <a:chExt cx="1031400" cy="812160"/>
            </a:xfrm>
          </p:grpSpPr>
          <p:grpSp>
            <p:nvGrpSpPr>
              <p:cNvPr id="1053" name="Group 9"/>
              <p:cNvGrpSpPr/>
              <p:nvPr/>
            </p:nvGrpSpPr>
            <p:grpSpPr>
              <a:xfrm>
                <a:off x="2198520" y="3306600"/>
                <a:ext cx="1031400" cy="812160"/>
                <a:chOff x="2198520" y="3306600"/>
                <a:chExt cx="1031400" cy="812160"/>
              </a:xfrm>
            </p:grpSpPr>
            <p:sp>
              <p:nvSpPr>
                <p:cNvPr id="1054" name="AutoShape 10"/>
                <p:cNvSpPr/>
                <p:nvPr/>
              </p:nvSpPr>
              <p:spPr>
                <a:xfrm>
                  <a:off x="2206800" y="332028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AutoShape 11"/>
                <p:cNvSpPr/>
                <p:nvPr/>
              </p:nvSpPr>
              <p:spPr>
                <a:xfrm>
                  <a:off x="2198520" y="330660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AutoShape 12"/>
                <p:cNvSpPr/>
                <p:nvPr/>
              </p:nvSpPr>
              <p:spPr>
                <a:xfrm>
                  <a:off x="2258280" y="33544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24b443"/>
                    </a:gs>
                    <a:gs pos="100000">
                      <a:srgbClr val="115d16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7" name="Text Box 18"/>
              <p:cNvSpPr/>
              <p:nvPr/>
            </p:nvSpPr>
            <p:spPr>
              <a:xfrm>
                <a:off x="2338560" y="343584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요소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8" name="그룹 41"/>
            <p:cNvGrpSpPr/>
            <p:nvPr/>
          </p:nvGrpSpPr>
          <p:grpSpPr>
            <a:xfrm>
              <a:off x="5883120" y="3306600"/>
              <a:ext cx="1030320" cy="812160"/>
              <a:chOff x="5883120" y="3306600"/>
              <a:chExt cx="1030320" cy="812160"/>
            </a:xfrm>
          </p:grpSpPr>
          <p:grpSp>
            <p:nvGrpSpPr>
              <p:cNvPr id="1059" name="Group 13"/>
              <p:cNvGrpSpPr/>
              <p:nvPr/>
            </p:nvGrpSpPr>
            <p:grpSpPr>
              <a:xfrm>
                <a:off x="5883120" y="3306600"/>
                <a:ext cx="1030320" cy="812160"/>
                <a:chOff x="5883120" y="3306600"/>
                <a:chExt cx="1030320" cy="812160"/>
              </a:xfrm>
            </p:grpSpPr>
            <p:sp>
              <p:nvSpPr>
                <p:cNvPr id="1060" name="AutoShape 14"/>
                <p:cNvSpPr/>
                <p:nvPr/>
              </p:nvSpPr>
              <p:spPr>
                <a:xfrm>
                  <a:off x="5891760" y="332028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AutoShape 15"/>
                <p:cNvSpPr/>
                <p:nvPr/>
              </p:nvSpPr>
              <p:spPr>
                <a:xfrm>
                  <a:off x="5883120" y="330660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AutoShape 16"/>
                <p:cNvSpPr/>
                <p:nvPr/>
              </p:nvSpPr>
              <p:spPr>
                <a:xfrm>
                  <a:off x="5942880" y="3354480"/>
                  <a:ext cx="897840" cy="702360"/>
                </a:xfrm>
                <a:prstGeom prst="hexagon">
                  <a:avLst>
                    <a:gd name="adj" fmla="val 31958"/>
                    <a:gd name="vf" fmla="val 115470"/>
                  </a:avLst>
                </a:prstGeom>
                <a:gradFill rotWithShape="0">
                  <a:gsLst>
                    <a:gs pos="0">
                      <a:srgbClr val="cc7032"/>
                    </a:gs>
                    <a:gs pos="100000">
                      <a:srgbClr val="844820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3" name="Text Box 19"/>
              <p:cNvSpPr/>
              <p:nvPr/>
            </p:nvSpPr>
            <p:spPr>
              <a:xfrm>
                <a:off x="6022440" y="34614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맥락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65" name="AutoShape 3"/>
          <p:cNvSpPr/>
          <p:nvPr/>
        </p:nvSpPr>
        <p:spPr>
          <a:xfrm>
            <a:off x="231444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의 정확한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인식을 토대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적절하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환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절제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그룹 71"/>
          <p:cNvGrpSpPr/>
          <p:nvPr/>
        </p:nvGrpSpPr>
        <p:grpSpPr>
          <a:xfrm>
            <a:off x="792000" y="3458520"/>
            <a:ext cx="7259760" cy="1241280"/>
            <a:chOff x="792000" y="3458520"/>
            <a:chExt cx="7259760" cy="1241280"/>
          </a:xfrm>
        </p:grpSpPr>
        <p:sp>
          <p:nvSpPr>
            <p:cNvPr id="1067" name="Rectangle 6"/>
            <p:cNvSpPr/>
            <p:nvPr/>
          </p:nvSpPr>
          <p:spPr>
            <a:xfrm rot="3418800">
              <a:off x="979560" y="366372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8" name="Group 7"/>
            <p:cNvGrpSpPr/>
            <p:nvPr/>
          </p:nvGrpSpPr>
          <p:grpSpPr>
            <a:xfrm>
              <a:off x="1833480" y="3816720"/>
              <a:ext cx="828720" cy="117000"/>
              <a:chOff x="1833480" y="3816720"/>
              <a:chExt cx="828720" cy="117000"/>
            </a:xfrm>
          </p:grpSpPr>
          <p:sp>
            <p:nvSpPr>
              <p:cNvPr id="1069" name="Oval 8"/>
              <p:cNvSpPr/>
              <p:nvPr/>
            </p:nvSpPr>
            <p:spPr>
              <a:xfrm>
                <a:off x="183348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9"/>
              <p:cNvSpPr/>
              <p:nvPr/>
            </p:nvSpPr>
            <p:spPr>
              <a:xfrm>
                <a:off x="191304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Oval 10"/>
              <p:cNvSpPr/>
              <p:nvPr/>
            </p:nvSpPr>
            <p:spPr>
              <a:xfrm>
                <a:off x="253656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Oval 11"/>
              <p:cNvSpPr/>
              <p:nvPr/>
            </p:nvSpPr>
            <p:spPr>
              <a:xfrm>
                <a:off x="260424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3" name="Rectangle 12"/>
            <p:cNvSpPr/>
            <p:nvPr/>
          </p:nvSpPr>
          <p:spPr>
            <a:xfrm rot="3418800">
              <a:off x="2512800" y="3605040"/>
              <a:ext cx="823680" cy="894240"/>
            </a:xfrm>
            <a:prstGeom prst="rect">
              <a:avLst/>
            </a:prstGeom>
            <a:solidFill>
              <a:srgbClr val="5491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4" name="Group 13"/>
            <p:cNvGrpSpPr/>
            <p:nvPr/>
          </p:nvGrpSpPr>
          <p:grpSpPr>
            <a:xfrm>
              <a:off x="3366720" y="3816720"/>
              <a:ext cx="828720" cy="117000"/>
              <a:chOff x="3366720" y="3816720"/>
              <a:chExt cx="828720" cy="117000"/>
            </a:xfrm>
          </p:grpSpPr>
          <p:sp>
            <p:nvSpPr>
              <p:cNvPr id="1075" name="Oval 14"/>
              <p:cNvSpPr/>
              <p:nvPr/>
            </p:nvSpPr>
            <p:spPr>
              <a:xfrm>
                <a:off x="336672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5"/>
              <p:cNvSpPr/>
              <p:nvPr/>
            </p:nvSpPr>
            <p:spPr>
              <a:xfrm>
                <a:off x="344628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Oval 16"/>
              <p:cNvSpPr/>
              <p:nvPr/>
            </p:nvSpPr>
            <p:spPr>
              <a:xfrm>
                <a:off x="406980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Oval 17"/>
              <p:cNvSpPr/>
              <p:nvPr/>
            </p:nvSpPr>
            <p:spPr>
              <a:xfrm>
                <a:off x="413748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9" name="Rectangle 18"/>
            <p:cNvSpPr/>
            <p:nvPr/>
          </p:nvSpPr>
          <p:spPr>
            <a:xfrm rot="3418800">
              <a:off x="3982320" y="3605040"/>
              <a:ext cx="823680" cy="894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Group 19"/>
            <p:cNvGrpSpPr/>
            <p:nvPr/>
          </p:nvGrpSpPr>
          <p:grpSpPr>
            <a:xfrm>
              <a:off x="4912200" y="3816720"/>
              <a:ext cx="1086840" cy="117000"/>
              <a:chOff x="4912200" y="3816720"/>
              <a:chExt cx="1086840" cy="117000"/>
            </a:xfrm>
          </p:grpSpPr>
          <p:sp>
            <p:nvSpPr>
              <p:cNvPr id="1081" name="Oval 20"/>
              <p:cNvSpPr/>
              <p:nvPr/>
            </p:nvSpPr>
            <p:spPr>
              <a:xfrm>
                <a:off x="4912200" y="3816720"/>
                <a:ext cx="18324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21"/>
              <p:cNvSpPr/>
              <p:nvPr/>
            </p:nvSpPr>
            <p:spPr>
              <a:xfrm>
                <a:off x="5016240" y="3817440"/>
                <a:ext cx="9014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Oval 22"/>
              <p:cNvSpPr/>
              <p:nvPr/>
            </p:nvSpPr>
            <p:spPr>
              <a:xfrm>
                <a:off x="5834160" y="3817440"/>
                <a:ext cx="16488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Oval 23"/>
              <p:cNvSpPr/>
              <p:nvPr/>
            </p:nvSpPr>
            <p:spPr>
              <a:xfrm>
                <a:off x="5922720" y="385560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24"/>
            <p:cNvSpPr/>
            <p:nvPr/>
          </p:nvSpPr>
          <p:spPr>
            <a:xfrm rot="3418800">
              <a:off x="5515920" y="360504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 Box 25"/>
            <p:cNvSpPr/>
            <p:nvPr/>
          </p:nvSpPr>
          <p:spPr>
            <a:xfrm>
              <a:off x="10026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26"/>
            <p:cNvSpPr/>
            <p:nvPr/>
          </p:nvSpPr>
          <p:spPr>
            <a:xfrm>
              <a:off x="254052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통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27"/>
            <p:cNvSpPr/>
            <p:nvPr/>
          </p:nvSpPr>
          <p:spPr>
            <a:xfrm>
              <a:off x="40158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동기부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28"/>
            <p:cNvSpPr/>
            <p:nvPr/>
          </p:nvSpPr>
          <p:spPr>
            <a:xfrm>
              <a:off x="5521320" y="3781080"/>
              <a:ext cx="820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다른 사람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능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Group 19"/>
            <p:cNvGrpSpPr/>
            <p:nvPr/>
          </p:nvGrpSpPr>
          <p:grpSpPr>
            <a:xfrm>
              <a:off x="6430320" y="3811680"/>
              <a:ext cx="1085400" cy="117000"/>
              <a:chOff x="6430320" y="3811680"/>
              <a:chExt cx="1085400" cy="117000"/>
            </a:xfrm>
          </p:grpSpPr>
          <p:sp>
            <p:nvSpPr>
              <p:cNvPr id="1091" name="Oval 20"/>
              <p:cNvSpPr/>
              <p:nvPr/>
            </p:nvSpPr>
            <p:spPr>
              <a:xfrm>
                <a:off x="6430320" y="3811680"/>
                <a:ext cx="182880" cy="115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21"/>
              <p:cNvSpPr/>
              <p:nvPr/>
            </p:nvSpPr>
            <p:spPr>
              <a:xfrm>
                <a:off x="6534360" y="3812760"/>
                <a:ext cx="902520" cy="1159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Oval 22"/>
              <p:cNvSpPr/>
              <p:nvPr/>
            </p:nvSpPr>
            <p:spPr>
              <a:xfrm>
                <a:off x="7351200" y="3812760"/>
                <a:ext cx="164520" cy="11304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Oval 23"/>
              <p:cNvSpPr/>
              <p:nvPr/>
            </p:nvSpPr>
            <p:spPr>
              <a:xfrm>
                <a:off x="7439760" y="384984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5" name="Rectangle 24"/>
            <p:cNvSpPr/>
            <p:nvPr/>
          </p:nvSpPr>
          <p:spPr>
            <a:xfrm rot="3418800">
              <a:off x="7040520" y="3600360"/>
              <a:ext cx="824040" cy="893520"/>
            </a:xfrm>
            <a:prstGeom prst="rect">
              <a:avLst/>
            </a:prstGeom>
            <a:solidFill>
              <a:srgbClr val="dfb6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Text Box 28"/>
            <p:cNvSpPr/>
            <p:nvPr/>
          </p:nvSpPr>
          <p:spPr>
            <a:xfrm>
              <a:off x="7101360" y="375264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대인관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관리능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7" name="슬라이드 번호 개체 틀 4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411FA-2ABF-47CD-BA6B-F89BD9C2DD3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99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00" name="직사각형 51"/>
              <p:cNvSpPr/>
              <p:nvPr/>
            </p:nvSpPr>
            <p:spPr>
              <a:xfrm>
                <a:off x="1216800" y="1386360"/>
                <a:ext cx="137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서지능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EQ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2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03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4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0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7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10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0" name="타원 5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111" name="타원 5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2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3" name="직사각형 56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지능 혹은 감성지능은‘자신과 타인에 대한 정서적 정보를 정확하고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효과적으로 처리할 수 있는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AutoShape 3"/>
          <p:cNvSpPr/>
          <p:nvPr/>
        </p:nvSpPr>
        <p:spPr>
          <a:xfrm>
            <a:off x="77616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 자신이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경험하는 감정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확하게 인식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AutoShape 3"/>
          <p:cNvSpPr/>
          <p:nvPr/>
        </p:nvSpPr>
        <p:spPr>
          <a:xfrm>
            <a:off x="385272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생의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적에 적합하도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렬시키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utoShape 3"/>
          <p:cNvSpPr/>
          <p:nvPr/>
        </p:nvSpPr>
        <p:spPr>
          <a:xfrm>
            <a:off x="539100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이해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 혹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이입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AutoShape 3"/>
          <p:cNvSpPr/>
          <p:nvPr/>
        </p:nvSpPr>
        <p:spPr>
          <a:xfrm>
            <a:off x="692928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만한 대인관계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형성하는 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14T00:01:39Z</dcterms:modified>
  <cp:revision>356</cp:revision>
  <dc:subject/>
  <dc:title>PowerPoint Template</dc:title>
</cp:coreProperties>
</file>