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D2B35-8001-43F0-BC7B-54BE4D187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CF39B-F0BB-4118-9385-9CDD8A0AD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2E9EA-B433-4604-9155-0B323BBFC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40E65-D4B6-41B8-B638-8D385FB24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7DD4B-A445-49EC-BBC0-278CE8312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361CA-65B7-43C2-9541-576DA3935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60CB5-26D7-4F31-A857-E824A4912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EFFFE-1618-498E-B4C9-4D324F025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A1CA1-1324-4E04-8995-61315DD59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AAA3F-6D7A-4D38-BC77-DFB47770C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0941A-EB9B-4B50-A5F5-80DBA7114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D3BBA-86BB-412A-9402-EEDB7F2F6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957FD-3075-4F81-9F13-050D13254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3096F-76A4-43D7-A0CF-A95352A4B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2B4DA-BE07-45C4-AD86-D556C3F2E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6BFC0-970A-4E8E-BAE1-626CF2A58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3BE0B-9B27-44C9-9896-313AA3FC9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C3C15-2FD8-486F-A7AB-57726BA4D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B5AFB-53EE-4404-B661-6D0D5B9ED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9FB06-AD4F-4D0C-907B-D940DEE12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2A69B-03EA-40E9-9BA5-E19559238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5E90B-F1FF-4C74-9A26-BA3C9914C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396D6-8E6A-4FDA-B370-455AD04D3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3089C-9A8D-4370-B72D-B3FF6FF68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1FD2C-57DB-48D3-B509-5A21A7312CC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1ABBE-9813-4416-B2EC-CF0725F70E8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서울재활병원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시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출근시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8:40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심시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12:30~1:30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퇴근시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6:0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요일 오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분 예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년치료실은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분까지 가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해야한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복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색 면바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흰색 카라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단화 및  운동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실습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습기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총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인치료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.2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아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청소년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통증치료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씩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rotation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불시에 교육이 있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균 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회정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기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숙박 – 근처 고신원 가격대 다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략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0~ 4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심 – 병원내 직원 식당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달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Report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기본 주마다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그 외 파트마다 선생님이 내주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4:02:00Z</dcterms:created>
  <dc:creator>SEC</dc:creator>
  <dc:description/>
  <dc:language>en-US</dc:language>
  <cp:lastModifiedBy>SEC</cp:lastModifiedBy>
  <dcterms:modified xsi:type="dcterms:W3CDTF">2009-04-09T04:09:25Z</dcterms:modified>
  <cp:revision>2</cp:revision>
  <dc:subject/>
  <dc:title>서울재활병원</dc:title>
</cp:coreProperties>
</file>