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E952A-F4C4-4D00-9A6C-60FB92DF1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03645-898D-4FF8-AFA6-7C8602456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0BCDE-4903-4E4E-B715-5DD2093F6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31DAE-5F11-4148-A38B-5FC745F2A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4D3F2-8054-4A0B-A8E2-828B7619B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A281A-BD6E-4AEF-8574-FA83BCC21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9D9F8-EF07-41F9-B3C7-AD6537A9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0D094-5812-4893-863E-61614191E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EE4CE-5BC0-4B76-A0CD-40CD6A25A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3E2DC-F9C2-43EB-8A5D-6DED6C2D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69CB2-3F67-455A-AD46-E219BC3C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24BF0-A173-4367-BD48-07696982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D9627-B906-48CD-BAE6-54668561DF7C}" type="slidenum">
              <a:rPr b="0" lang="ko-K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7543800" cy="259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독도가 한국영토인 근거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-</a:t>
            </a: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지리적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62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 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1611888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영학과  안소민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는 우리땅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3" name="그림 2" descr=""/>
          <p:cNvPicPr/>
          <p:nvPr/>
        </p:nvPicPr>
        <p:blipFill>
          <a:blip r:embed="rId2"/>
          <a:stretch/>
        </p:blipFill>
        <p:spPr>
          <a:xfrm>
            <a:off x="2131920" y="1341360"/>
            <a:ext cx="4564080" cy="2952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1763640" y="4530600"/>
            <a:ext cx="584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월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5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일 독도의 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 동남쪽 뱃길 따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7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외로운 섬 하나 새들의 고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누가 아무리 자기네 땅이라 우겨도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는 우리 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68360" y="1700280"/>
            <a:ext cx="42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동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주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8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의 다른 이름 독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            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그림 4" descr=""/>
          <p:cNvPicPr/>
          <p:nvPr/>
        </p:nvPicPr>
        <p:blipFill>
          <a:blip r:embed="rId2"/>
          <a:stretch/>
        </p:blipFill>
        <p:spPr>
          <a:xfrm>
            <a:off x="2744640" y="3178080"/>
            <a:ext cx="459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서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187280" y="148428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북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7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4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0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동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3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4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시설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발전기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어민 대피시설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기상측정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사가 가파른 봉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많은 동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635280" y="335772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동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276720" y="3500280"/>
            <a:ext cx="4680000" cy="3103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900000" y="13809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서도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51m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떨어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높이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98.6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둘레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.8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면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3.297m2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선착장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관광객 맞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)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담수화 시설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우리나라와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5" name="그림 3" descr=""/>
          <p:cNvPicPr/>
          <p:nvPr/>
        </p:nvPicPr>
        <p:blipFill>
          <a:blip r:embed="rId2"/>
          <a:srcRect l="0" t="23407" r="61114" b="45886"/>
          <a:stretch/>
        </p:blipFill>
        <p:spPr>
          <a:xfrm>
            <a:off x="395280" y="4292640"/>
            <a:ext cx="3205080" cy="1806480"/>
          </a:xfrm>
          <a:prstGeom prst="rect">
            <a:avLst/>
          </a:prstGeom>
          <a:ln w="0">
            <a:noFill/>
          </a:ln>
        </p:spPr>
      </p:pic>
      <p:pic>
        <p:nvPicPr>
          <p:cNvPr id="56" name="그림 4" descr=""/>
          <p:cNvPicPr/>
          <p:nvPr/>
        </p:nvPicPr>
        <p:blipFill>
          <a:blip r:embed="rId3"/>
          <a:stretch/>
        </p:blipFill>
        <p:spPr>
          <a:xfrm>
            <a:off x="3851280" y="3500280"/>
            <a:ext cx="4241880" cy="2899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042920" y="1711440"/>
            <a:ext cx="64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울릉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87.4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16.8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과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9" name="그림 2" descr=""/>
          <p:cNvPicPr/>
          <p:nvPr/>
        </p:nvPicPr>
        <p:blipFill>
          <a:blip r:embed="rId2"/>
          <a:srcRect l="22242" t="6434" r="0" b="13570"/>
          <a:stretch/>
        </p:blipFill>
        <p:spPr>
          <a:xfrm>
            <a:off x="2700360" y="3068640"/>
            <a:ext cx="3568680" cy="2620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971640" y="177336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섬 오키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57.5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쓰에와 오키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0 k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한국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971640" y="1268280"/>
            <a:ext cx="71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의 울릉도와 독도가 더 가까움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에서 독도 육안으로 관측가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이사부가 독도 점령당시 독도는 울릉도의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그림 3" descr=""/>
          <p:cNvPicPr/>
          <p:nvPr/>
        </p:nvPicPr>
        <p:blipFill>
          <a:blip r:embed="rId2"/>
          <a:stretch/>
        </p:blipFill>
        <p:spPr>
          <a:xfrm>
            <a:off x="684360" y="2511360"/>
            <a:ext cx="3860640" cy="3862440"/>
          </a:xfrm>
          <a:prstGeom prst="rect">
            <a:avLst/>
          </a:prstGeom>
          <a:ln w="0">
            <a:noFill/>
          </a:ln>
        </p:spPr>
      </p:pic>
      <p:pic>
        <p:nvPicPr>
          <p:cNvPr id="64" name="그림 4" descr=""/>
          <p:cNvPicPr/>
          <p:nvPr/>
        </p:nvPicPr>
        <p:blipFill>
          <a:blip r:embed="rId3"/>
          <a:stretch/>
        </p:blipFill>
        <p:spPr>
          <a:xfrm>
            <a:off x="4859280" y="308772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6" name="그림 2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3887640" cy="4667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4835520" y="2448000"/>
            <a:ext cx="32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가 무주지라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음대로 규정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후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영토로 편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435640" y="4581360"/>
            <a:ext cx="220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내각회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결정의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정당성 주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가 한국영토인 이유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531800" y="1473120"/>
            <a:ext cx="5764320" cy="2603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116000" y="436572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지리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과 더 가까이 위치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실효적 지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현재 독도에 한국인 거주 및 지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법적 근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900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대한제국 칙령 제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4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호 발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선의 독도 영유권을 국제적으로 공표</a:t>
            </a:r>
            <a:br>
              <a:rPr sz="2400"/>
            </a:b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90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일본 발표보다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빠른 시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0:02:06Z</dcterms:created>
  <dc:creator>user</dc:creator>
  <dc:description/>
  <dc:language>en-US</dc:language>
  <cp:lastModifiedBy>LG</cp:lastModifiedBy>
  <dcterms:modified xsi:type="dcterms:W3CDTF">2017-03-29T01:57:47Z</dcterms:modified>
  <cp:revision>15</cp:revision>
  <dc:subject/>
  <dc:title>PowerPoint 프레젠테이션</dc:title>
</cp:coreProperties>
</file>