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9D2E-F751-43F5-8EB3-E0D7AA6485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EC16C-031B-4544-BFE7-418677EF5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BFC75-5F17-453E-AF9C-4B40E8FF6C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E2C16-FC2E-4C65-A751-7705B59B0D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4A28D-34F7-4256-ABEC-B044FAF2F8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3E6-133C-4018-8D4F-CC7B530AF7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6B053-F97A-4109-A394-4821EC5A5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088D2-807B-477B-90BC-0C37E90AE5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D63D5-4712-43A9-A5A0-CC28D2AF9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6708A-2EDB-4540-A028-C3B7DBC63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D564-B12E-4E4B-A7EE-B61DDEDED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6CF-5FCD-4DE2-85F1-C40CA5B9D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0BD1E-FE0F-4411-A3DE-762C08122CB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제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장 말더듬의 증후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연구에서 가장 도전받는 과업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포괄적이고 행동적으로 정의내리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말하는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리듬이나 유창성에서 지나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병리적인 비유창성 행동이란 견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실질적</a:t>
            </a:r>
            <a:br>
              <a:rPr sz="2400"/>
            </a:b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 반복이나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Wingate(1964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든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든지 간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과 음절 반복 및 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이 말더듬을 진단하는데 필요하고 충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행동 도식들</a:t>
            </a:r>
            <a:r>
              <a:rPr b="0" lang="en-US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chemas)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는 특성과 겉으로 드러나지 않는 정서적인 반응으로 이분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부분의 초기 말더듬은 주로 음절 반복과 음의 연장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은 말더듬이 일어났다가 없어졌다가 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일관성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상대적으로 긴장과 공포가 적은 것이 특징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나이 어린 말더듬이들도 긴장과 공포나 기타 특징들을 나타낼 가능성도 있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PFAGH + Cs(Wf + Sf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S = ----------------------------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      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  + Fl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하려는 단어의 발화를 가능하게 만들기 위해 통합을 추구하려고 노력하는 것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한할 정도로 다양한 행동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행동을 말더듬의 부수적 혹은 이차적 특성과 구별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핵심되는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과 연장 혹은 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onic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강직성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있을 수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없을 수도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많은 말더듬이들에게서 연장보다는 반복이 먼저 발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모음과 계속음에서 소리를 내면서 연장하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종 파열음으로 시작하는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VC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에서는 조음 포즈 혹은 후두 포즈를 취하지만 소리가 나지 않는 고정이 일어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소적 성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는 후두 윗 부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pralaryngeal leve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후두 부분에서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두 곳 모두에서 구어를 시작하는데 어려움을 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폐쇄 혹은 막힘을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tense pauses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핵심이 되는 특징으로서 소리를 내지 않는 고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audible fixations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폐쇄를 의미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 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an Riper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조음 포즈와 후두 포즈는 취하지만 소리는 나지 않고 고정이 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핵심증후를 연장의 범주 속에 포함시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의 종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진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채워지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않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unfilled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문법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적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유의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(idiosyncratic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간단히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 :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과 같은 비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nonwords)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이에 존재하고 있는 겨우 소리를 들을 수 있는 심호흡이나 근육긴장을 말함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율동적 발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이 있을 수 있지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드시 긴장을 수반하지는 않음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비정상적인 강세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는 시간 맞추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timing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폐쇄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breaks)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을 포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수적 혹은 이차적 말더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매우 많은 각각의 개별적인 방식들로 나타날 수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조작적 조건화를 통해서 학습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간이 지남에 따라 반복과 연장을 하는 경험에 반응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대로 반복과 연장을 하는 것을 두려워하는 것으로 발달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과 반복의 경험에 대한 반응</a:t>
            </a:r>
            <a:endParaRPr b="0" lang="en-US" sz="40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병리적인 비유창성의 반복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severation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대처하기 위한 전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를 들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을 하는 동안에 속도를 낮추거나 혹은 갑작스럽게 발성을 하는 것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 프라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vocal fly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를 극복하기 위한 중단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errupter reactions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노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을 멈추고 말하기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peaking on expiratory reserve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 헐떡거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spiratory gasps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도의 폐쇄를 중단하기 위하여 사용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,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흡기시 말하기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공포에 대한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난 증후로부터 추측해야 되는 마음과 정서의 내적 상태에 의하여 일어나게 됨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기본적으로 그 말더듬을 회피하거나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하거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장하거나 하는 노력이 동기가 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 때문에 일어난 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의사소통 상황이나 단어의 의도적인 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치 또는 바꾸어 말하기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ircumlocution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빨리 말하거나 비정상적인 억양으로 말하는 것과 같은 비정상적인 말하기 방법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도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scape)---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회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voidance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cid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현제까지 말을 계속 더듬고 있는 사람들의 상대적인 숫자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의 범위가 다양한 이유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한 모집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단 내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간의 문화적 차이를 포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한 지역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 표집의 규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5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정의에 사용한 매개변수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6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대상의 차이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=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느 기간의 환자발생 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기간 동안 위험에 노출된 전체인구 수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X 1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당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  <p:pic>
        <p:nvPicPr>
          <p:cNvPr id="45" name="00431.mp3" descr=""/>
          <p:cNvPicPr/>
          <p:nvPr/>
        </p:nvPicPr>
        <p:blipFill>
          <a:blip r:embed="rId1"/>
          <a:stretch/>
        </p:blipFill>
        <p:spPr>
          <a:xfrm>
            <a:off x="864396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2081440" fill="hold"/>
                                        <p:tgtEl>
                                          <p:spTgt spid="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기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소리가 나지 않는 간격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ilent intervals)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얼굴 표정 혹은 신체동작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의 사용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시작계교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tarter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정한 기간 동안 연기를 한 뒤에 어떤 단어를 시작하기 위하여 말더듬이가 사용하는 행동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두 및 비구두 행동에 대한 복잡하게 얽힌 시간맞추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intricate timing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 포함됨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미 정상적으로 말한 단어의 반복에서부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를 느낀 단어에서 빨리 시작하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unning start) 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를 젖는 것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말을 할 단어에 필요한 조음기관의 예비동작을 취하는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예비동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paratory set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앞으로 나올 음절에 적당할 수도 있고 적당하지 않을 수도 있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위장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disguise reactions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사람이 말더듬을 숨기거나 위장하려는 노력이 동기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신체동작이나 부적당한 웃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다른 음성형태를 채택하는 것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: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악화된 말더듬이가 유창하게 말하는 것을 계속 실패할 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을 감소시키려는 노력으로서 밖으로 나타나거나 혹은 나타나지 않는 어떤 행동들을 하게 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와 같은 행동들은 처음 사용할 때는 효과가 있을지도 모르지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러한 반응의 새로움이 없어지면 희석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반응의 힘은 간헐적인 강화를 받기 때문에 증가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반응들은 말더듬이의 정서적인 반응과 말더듬이가 복잡한 구어의 동시 조음동작에 필요한 적당한 타이밍을 도모하려는 노력의 징후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나타나지 않는 정서적인 반응</a:t>
            </a:r>
            <a:endParaRPr b="0" lang="en-US" sz="36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8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 실패의 예견이나 실패에 대한 반응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서적인 점을 수반하지 않고도 말을 더듬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공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죄의식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적의 등이 가장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말하는 상황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청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화의 주제 등에 따라 다를 수도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메시지의 목적이나 의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또 정보 하중이 증가하면 유창성이 깨어질 가능성이 종종 더 커짐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구어장애뿐만 아니라 청자가 그 말더듬이에게 크게 영향을 미칠 수 있다는 점에서 의사소통 장애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반응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의 정서와 감정의 주위에서 일어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정서들은 중추신경계 및 자율신경계 모두에서 일어나고 있는 생리학적인 것과 상관이 있을 수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은 정서가 격앙되는 순간을 수반할 수도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는 생리적인 항상성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homeostasis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을 유지하는 기능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각 심장박동의 수축력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망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tina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에 들어오는 불빛의 양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아드레나린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drenaline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비의 증가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호흡이 더 빨라지고 더 깊어지는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호흡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과 같은 어떤 위급한 반응을 일으킬 수 있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율신경계의 부교감신경 지선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arasympathetic branch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소화와 신진대사와 같은 과정을 시작하고 유지하는 일을 할 뿐만 아니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의 수축과 심장박동 비율의 속도를 낮추는 것과 같은 교감신경 지선이 하는 특정기능과 반대되는 일을 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말더듬 반응들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특징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반복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을 포함하는 말더듬의 본질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차 증후들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적인 증후와 함께 즉각적으로 발생하거나 일차적인 특징과 연관된 실제적인 구어의 중단과 동시에 일어나는 것은 아님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증후들을 세 가지 범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것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성적인 것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난 수반행동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으로 볼 수 있거나 들을 수 있는 행동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관된 동작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눈 깜짝임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머리 움칠거림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삽입된 구어 분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불필요하고 가끔 부적당한 삽입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성의 비정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의 빠른 혹은 느린 비율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질과 음도에서의 변화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얼굴이 붉어지거나 창백해지는 것과 같은 겉으로 드러난 피부의 반응 등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주로 정서적인 각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arousal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순간적으로 고조되는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겉으로 드러나지 않는 내적인 신체변화인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Van Riper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숨겨진 반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과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포착하기 어려운 눈 동작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장맥관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ardiovascular)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떨림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EEG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변화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화학적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극 장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electrodermal disturbances)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동공 팽창과 같은 기타 반사활동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보는 생리적인 수반행동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원인론적인 의미를 가지는 만성적인 특성으로 보지 않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특정한 예에 속하는 단순히 순간적인 반응들이라고 주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적인 수반행동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전형적으로 나이가 든 말더듬이들이 말더듬과 관련된 자신들의 감정을 표현하려고 하는 주관적인 평가로 이루어져 있음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어행위와 일치할 수 없다는 데서 생겨나는 좌절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근육긴장이나 근육이 당겨지는 느낌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가 일어나기 전이나 일어나는 동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일어난 후에 생기는 정서적인 반응 등도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의 예견과 관련된 감정에는 공포와 불안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폐쇄 자체와 연관된 감정에는 자기 자신과 직접 관련된 환경과의 인지적인 접촉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erceptual contact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상실이 포함 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어떤 폐쇄 다음에 따라오는 순간과 연관된 감정에는 좌절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당황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무언가에 대한 죄의식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의 감소 가능성과 어떤 것에 대한 해방감 등이 포함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아동들의 특성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9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슈의 핵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아동의 가벼운 분절과 나이 어린 말더듬이들의 구어붕괴 특성 사이에 연속성이 있다고 주장하는 연속성 가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ontinuity hypothesis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타당성에 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인간에 따라 변화가 많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의 아동들의 구어의 특정인 음의 연장이나 긴장 쉼과 같은 특징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 발생초기에 이 두 가지 형태의 구어를 구별하기는 매우 어려움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진단은 부분적으로 오랜 시간이 지난 뒤에 부모들의 회상이나 기억에 근거하여 이루어졌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율 수치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longitudinal)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혹은 횡단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cross-sectional)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으로 자료 수집하는 방법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에 관한 자료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을 직접 조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의 부모들과 인터뷰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개월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 년 동안 종단적인 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상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Cooper, Parris, &amp; Wells(1974): 0.93%; 7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대학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lasner &amp; Rosenthal(1957): 15.4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초등학교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 학생 대상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-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횡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 &amp; Harris(1964):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지속된 아동들의 발생율은 약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%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었으나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시적인 말더듬 아동들은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4.5%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생에서부터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6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까지 추적한 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,000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 이상의 아동들을 대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맑은 고딕"/>
              </a:rPr>
              <a:t>—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Newcastle-upon-Tyne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종단적인 연구의 단점</a:t>
            </a:r>
            <a:r>
              <a:rPr b="0" lang="en-US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0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년 동안에 걸친 연구</a:t>
            </a:r>
            <a:endParaRPr b="0" lang="en-US" sz="20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92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1219320" y="1066680"/>
            <a:ext cx="77724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1959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실시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을 더듬은 아동들과 더듬지 않은 아동들에 대한 일련의 비교 자료들이 요약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 자료의 일부분은 부모와의 인터뷰에 근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부 자료는 병리적인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에서 두 집단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2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을 비교한 것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개 범주는 삽입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및 음절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구 반복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바꿔 말하기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revisions: 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미완성 구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리고 그녀가 거기에 도착한 후에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그가 왔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깨어진 단어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"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나는 지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(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쉼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-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집에 가고 있다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."), 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장된 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Iowa Studies: 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분석결과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및 구 반복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 연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 피험자들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절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단어 등의 반복이 두 집단 사이에서 가장 차이가 있었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들이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su-su-, su-su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세 개의 반복 단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평균수가 매우 높았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두 집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/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)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아동들에게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8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가지 비유창성 범주 모두가 어느 정도 공존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으로 비유창하게 말하는 모든 매우 어린 아동들을 동기가 높은 부모들이나 다른 청자들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라고 분류한다고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은 이러한 자료를 아동기 말더듬에 대해 자신의 진단기인론을 재확인하는 것으로 이용하였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McDearmon(1968)</a:t>
            </a: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연구에 있는 자료를 재검토하여서 아동들의 초기 정상적인 비유창성 패턴에 관한 보다 자세한 몇 가지 관점을 덧붙였음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긴장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및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등의 발생율에서도 통제집단과 실험집단이 대단히 다른 것을 나타냄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이차성 말더듬을 예리하게 구별하는 점이 부족하고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첩되어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loodstei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지지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차성 말더듬과 정상적인 비유창성 사이에 중복되고 있다는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Johnson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의 발견점을 확인하는 경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000000"/>
              </a:solidFill>
              <a:latin typeface="맑은 고딕"/>
              <a:ea typeface="맑은 고딕"/>
            </a:endParaRPr>
          </a:p>
        </p:txBody>
      </p:sp>
      <p:sp>
        <p:nvSpPr>
          <p:cNvPr id="10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(prevalence)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정한 모집단에 대하여 특정한 시기에 발견한 말더듬이의 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구를 한 모집단의 형태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표집 대상의 연령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자료 수집 방법 등에 따라서 다름 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연령이 증가함에 따라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특히 고등학교 쪽으로 갈수록 점차적으로 말더듬의 출현율이 감소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사춘기 이전 학생들의 약 </a:t>
            </a:r>
            <a:r>
              <a:rPr b="0" lang="en-US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%: </a:t>
            </a: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일반적으로 의견이 일치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출현율과 발생율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성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발생연령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수반하고 있는 다른 언어장애 등에 근거하여 세분할 때 더 많이 나타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Brady &amp; Hall(1976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유치원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9:1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상중 소수가 저지능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Gillespie &amp; Cooper(197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중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고등학교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학년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 비율이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7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Andrews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:1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비율은 연령이 높아짐에 따라 증가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Yairi(1983)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인식을 기초로 한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~3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22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명의 말더듬 아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;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녀 비슷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의 비율이 더 높은 이유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여자들의 자연회복 비율이 남자보다 더 일찍 또는 더 높은 비율로 일어남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 대한 유전적인 소인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남자에게 사회적인 요구와 기대가 더 높다는 점</a:t>
            </a:r>
            <a:endParaRPr b="0" lang="en-US" sz="32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1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보고에 근거한 것이 많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정상적인 비유창성과 병리적인 비유창성에 대해 부모들의 판단을 근거한 자료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언어치료사의 임상적인 판단에 대한 타당도와 신뢰도에 영향을 미치는 변수들을 고려하여야 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러한 변수들에는 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부모들의 말더듬에 대한 정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2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초기 단계 동안에 말더듬의 치료경험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.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초기 말더듬의 완화 혹은 자연회복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발생연령</a:t>
            </a:r>
            <a:r>
              <a:rPr b="0" lang="en-US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은 보통 취학 전에 시작되고 나이가 들어감에 따라 발생율이 점점 감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대뇌손상의 경우를 제외하고는  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후기 아동기 혹은 청년기 동안에 말더듬이 발생하는 일은 거의 없음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가장 많이 일어나는 시기는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3-4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이 발생하는 가장 어린 연령은 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1.5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r>
              <a:rPr b="0" lang="en-US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-2</a:t>
            </a: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세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이 시기는 언어발달이 형성되는 시기</a:t>
            </a:r>
            <a:endParaRPr b="0" lang="en-US" sz="28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말더듬의 행동 단위</a:t>
            </a:r>
            <a:endParaRPr b="0" lang="en-US" sz="4400" spc="-1" strike="noStrike">
              <a:solidFill>
                <a:srgbClr val="000000"/>
              </a:solidFill>
              <a:latin typeface="맑은 고딕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 행동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본서에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: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사회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생리학적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,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심리언어학적 등의 요인들에 대해 겉으로 드러나는 반응이나 겉으로 드러나지 않는 반응들과 이러한 요인들 사이의 상호관계들을 포함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내면에 파묻혀 있는 정서적인 요인들 및 말더듬의 생리학적인 상관관계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음의 연장처럼 겉으로 드러난 병리적인 비유창성을 조사하는 것이 필수적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관찰 가능한</a:t>
            </a:r>
            <a:r>
              <a:rPr b="0" lang="en-US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" </a:t>
            </a:r>
            <a:r>
              <a:rPr b="0" lang="ko-KR" sz="2400" spc="-1" strike="noStrike">
                <a:solidFill>
                  <a:srgbClr val="000000"/>
                </a:solidFill>
                <a:latin typeface="맑은 고딕"/>
                <a:ea typeface="맑은 고딕"/>
              </a:rPr>
              <a:t>행동만을 고려하면 아동의 병리적인 비유창성을 철저하게 검사하지 못하게 될 것</a:t>
            </a:r>
            <a:endParaRPr b="0" lang="en-US" sz="2400" spc="-1" strike="noStrike">
              <a:solidFill>
                <a:srgbClr val="000000"/>
              </a:solidFill>
              <a:latin typeface="맑은 고딕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11T00:09:48Z</dcterms:created>
  <dc:creator>황규탁</dc:creator>
  <dc:description/>
  <dc:language>en-US</dc:language>
  <cp:lastModifiedBy>user</cp:lastModifiedBy>
  <dcterms:modified xsi:type="dcterms:W3CDTF">2014-01-03T01:04:05Z</dcterms:modified>
  <cp:revision>21</cp:revision>
  <dc:subject/>
  <dc:title>제3장 말더듬의 증후론</dc:title>
</cp:coreProperties>
</file>