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E5660-0295-4C79-BCA0-7307449B53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8EE75-3DC8-45BE-A628-39DFB5E6A4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07ABE-A022-400D-BA3E-BC197A0F44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FB4-BD19-4652-B92C-6CB8880330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CC3E9-B1DD-46C0-90F3-889E868A32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115EB-1300-43CE-A99A-91543B9C43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41DF8-9E83-4BEC-8FF4-0F3D68CE2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94ED3-C60C-4D8C-A8AC-0E3B74FFDA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D42C3B-2A65-43D2-91CE-C519C8A93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65CF-3B66-4CA7-A7BC-990B003E7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DEB4-2DB9-412D-9729-744416DCE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E532D-DB14-4493-A324-34CECBA6F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8ED1-9DE4-4104-B8C7-F35CE1B3C2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0C6E7-FBD0-49FD-9931-0F6B16A8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55A0C3-FE5F-4C19-B145-A6586EAA5C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91F46D-E8D5-445F-A191-A8C535937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F2A818-3681-46D5-AD10-0E77A201A7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7BD8C-F6F4-4672-8782-8971C95AD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A8FA1-37AC-4935-AB71-444429003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6874D-D018-49AB-9FAF-080939CB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39F8C-708E-44ED-BF9B-85FA16D806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0FC50-53CE-4785-8596-E00EEFE8E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4EA3AE-51F3-49FD-B3BF-87E9EC2B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66E4-BAC3-4D18-AFAC-012AEAF12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Group 3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Rectangle 4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3" name="Freeform 5"/>
              <p:cNvSpPr/>
              <p:nvPr/>
            </p:nvSpPr>
            <p:spPr>
              <a:xfrm>
                <a:off x="457200" y="0"/>
                <a:ext cx="2743200" cy="1166760"/>
              </a:xfrm>
              <a:prstGeom prst="pie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  <p:grpSp>
          <p:nvGrpSpPr>
            <p:cNvPr id="4" name="Group 6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AutoShape 7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  <p:sp>
            <p:nvSpPr>
              <p:cNvPr id="6" name="AutoShape 8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3366"/>
                  </a:solidFill>
                  <a:latin typeface="굴림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428-6F90-4780-A214-DCFA5AA94001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Group 2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Rectangle 3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0" name="AutoShape 4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grpSp>
        <p:nvGrpSpPr>
          <p:cNvPr id="51" name="Group 5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AutoShape 6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  <p:sp>
          <p:nvSpPr>
            <p:cNvPr id="53" name="AutoShape 7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3366"/>
                </a:solidFill>
                <a:latin typeface="굴림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lick to edit the title text format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Click to edit the outline text format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1" marL="743040" indent="-285840">
              <a:spcBef>
                <a:spcPts val="700"/>
              </a:spcBef>
              <a:buClr>
                <a:srgbClr val="003366"/>
              </a:buClr>
              <a:buSzPct val="75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2" marL="1143000" indent="-22860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Third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3" marL="1600200" indent="-228600">
              <a:spcBef>
                <a:spcPts val="700"/>
              </a:spcBef>
              <a:buClr>
                <a:srgbClr val="003366"/>
              </a:buClr>
              <a:buSzPct val="80000"/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our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4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f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5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ix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lvl="6" marL="2057400" indent="-228600">
              <a:spcBef>
                <a:spcPts val="700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Seventh Outline Level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3DAB76-B5C3-482F-8DF1-F1DA0D5FD8FB}" type="slidenum">
              <a:rPr b="1" lang="en-US" sz="2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제 </a:t>
            </a:r>
            <a:r>
              <a:rPr b="1" lang="en-US" sz="4800" spc="-1" strike="noStrike">
                <a:solidFill>
                  <a:srgbClr val="003366"/>
                </a:solidFill>
                <a:latin typeface="굴림"/>
              </a:rPr>
              <a:t>3 </a:t>
            </a:r>
            <a:r>
              <a:rPr b="1" lang="ko-KR" sz="4800" spc="-1" strike="noStrike">
                <a:solidFill>
                  <a:srgbClr val="003366"/>
                </a:solidFill>
                <a:latin typeface="굴림"/>
              </a:rPr>
              <a:t>장 평가</a:t>
            </a:r>
            <a:endParaRPr b="1" lang="en-US" sz="48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4427280" y="2927520"/>
            <a:ext cx="4259160" cy="1822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대구대학교 언어치료학과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6666"/>
                </a:solidFill>
                <a:latin typeface="굴림"/>
              </a:rPr>
              <a:t>권도하 교수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항목별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 SW/M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10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말더듬 비율이 연령과 말하는 과제 기능에 따라 변함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는 가장 적은 말더듬을 유발한 항목에서 가장 많이 유발한 항목으로 진행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질문하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가장 말더듬을 많이 유발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이한 말하기 상황에 따라 말더듬 비율이 다르다는 특징에 따라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환경에서 평가하는 것이 필요성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하기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경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정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조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상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압박감 없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만약 압박감을 측정할 수 있다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발화의 길이 혹은 복잡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짧음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긺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간단함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s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잡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overt sample)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측정사실 모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비공개 샘플에서 더 많이 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반대도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 환경과 실제 생활에서 측정 사이 불일치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 사이의 차이점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저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실내 샘플과 임상실외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이에 유의미한 차이 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복합적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,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다양한 말더듬 측정 방법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2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외면적 및 내면적 행동 관찰에서 치료 전 및 치료 후 모두에서 대부분 경우에 매우 유사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. Ingham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Onslow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적어도 세 가지 다른 환경들에서 혹은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명의 다른 사람들에게서 샘플을 얻을 것을 주장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말하기 과업과 경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서로 다른 사람들과 적어도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~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의 서로 다른 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실 밖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장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구어 샘플을 수집 기회 제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-1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곳까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에 대한 부연 설명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1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를 포함하는 프로그램들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Monterey Fluency Program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Systematic Fluency Assessment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과 비슷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이유 개발자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Shine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이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초기 워크숍에 참가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모든 유창성 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구어를 유도하는 발화의 샘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용한 말더듬 시스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 결과를 분석하기 위해서 사용한 신뢰도 절차 등으로써 충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4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은 중국어로 번역되어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국 연구지에서 검토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. FI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수집한 것과 같은 완전한 샘플을 수집하는 것의 중요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1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3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샘플 수집 및 검사 과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riterion Test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 비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창성에 대해 전혀 후속자극을 주지 않고 그 환자의 치료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행동을 측정한 것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시작하기 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가지 주요한 말하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화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서 말더듬에 대한 일관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할 수 있는 비율을 얻는 것이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더듬은 단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체 단어를 계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한 시간 측정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나중에 분석을 위해서 녹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녹화를 해야 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신뢰도 및 단어 수 계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2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5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확인사항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의 읽기 수준이하의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각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 1, 2, 3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에 대하여 각각 다른 읽기 자료를 선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흔히 있는 정상적 비유창성인 수정과 말더듬을 구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대상자가 글을 읽지 못하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 검사를 실시하지 말 것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지시는 간단하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내가 당신에게 충분하다고 할 때까지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은 계속 읽어야 합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독백에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“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기에 당신이 말할 주제들이 있습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당신이 말을 하고 나는 들을 것입니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26" name="00430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12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기초 비율 혹은 기준검사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CT)-3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는 다음 단계로 나아가기 위해서 통과해야할 프로그램 중에 실시하는 검사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준검사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CT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기준검사가 필요한 단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장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쪽 그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7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에서 말더듬 비율이 높게 관찰되는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들이 읽기에서 대치하거나 돌려말하기를 할 수 없기 때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많은 성인들은 특정한 단어를 돌려 말하고 회피할 수 있기 때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프로그램에서 읽기로 시작하는 주요한 이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직면하게 하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회피문제를 조기에 해결하기 위해서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857160" y="2357280"/>
            <a:ext cx="7693200" cy="372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  <p:sp>
        <p:nvSpPr>
          <p:cNvPr id="13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131" name="_x82924376" descr="EMB000006d00946"/>
          <p:cNvPicPr/>
          <p:nvPr/>
        </p:nvPicPr>
        <p:blipFill>
          <a:blip r:embed="rId1"/>
          <a:stretch/>
        </p:blipFill>
        <p:spPr>
          <a:xfrm>
            <a:off x="785880" y="214200"/>
            <a:ext cx="7000920" cy="6643800"/>
          </a:xfrm>
          <a:prstGeom prst="rect">
            <a:avLst/>
          </a:prstGeom>
          <a:ln w="0">
            <a:noFill/>
          </a:ln>
        </p:spPr>
      </p:pic>
      <p:pic>
        <p:nvPicPr>
          <p:cNvPr id="132" name="00429.mp3" descr=""/>
          <p:cNvPicPr/>
          <p:nvPr/>
        </p:nvPicPr>
        <p:blipFill>
          <a:blip r:embed="rId2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3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CT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와 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FI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의 관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4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Van Kirk(1974b): r=.72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로 유의미한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Ryan(1995b): r=.91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상관이 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여러 개의 측정을 하는 이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객관성을 효과적으로 충족시키기 위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업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일반화를 위한 측정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간 및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종료 시에 계속 사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CT: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전에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음 단계로 나아갈 준비 확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중 각 단계를 마친 후 실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.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사례사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준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중요정보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언어치료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 기간 동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많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얼마나 성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 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패한 치료의 경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기대감 저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과대하게 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부모들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친척들의 말더듬 유무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현재 지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?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유전적인 요인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에 대한 생물학적 기초를 지적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부모들은 유전적 제공자이자 하나의 모델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3.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복합 사례사 양식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0" lang="en-US" sz="3600" spc="-1" strike="noStrike">
                <a:solidFill>
                  <a:srgbClr val="006666"/>
                </a:solidFill>
                <a:latin typeface="굴림"/>
              </a:rPr>
              <a:t>(FI)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초판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인터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SI)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양식이었음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;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성인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아동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두 개의 양식이 번거롭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시간소비가 되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너무 길고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불필요한 부분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삭제항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그림 이야기 말하기와 독백 유사한 항목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      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방해 항목은 일관성 유지 어려워 삭제하였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학령 전 아동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어떤 항목들을 생략 가능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읽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전화하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다양한 과제들과 환경들에서 환자의 구어샘플 얻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FI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하나의 진단검사이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사후 검사도구로서 역할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시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2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실시 항목 수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연령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환자의 발화 수 등과 같은 요인에 따라 말하는 시간이 약 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5~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으로 나타남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  <p:pic>
        <p:nvPicPr>
          <p:cNvPr id="99" name="0042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인터뷰 및 태도 척도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태도척도 및 인터뷰 양식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말더듬 문제와 치료의 효과에 대한 환자 및 부모의 견해를 얻기 위해 제시한 전략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Public School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용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Bridgeport Project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의 추적점검용으로 인터뷰 양식을 개발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Ryan, 1981)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데이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에 대한 효과나 평가에 매우 중요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10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분 이내에 환자의 부모로부터 중요한 정보를 제공받는데 대단히 도움이 되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임상가에게 질문 할 것들에 대한 아이디어를 주었음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치료 후에 매우 유용한 정보를 제공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인터뷰 시간을 잘 사용하며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개별화교육계획</a:t>
            </a:r>
            <a:r>
              <a:rPr b="0" lang="en-US" sz="2000" spc="-1" strike="noStrike">
                <a:solidFill>
                  <a:srgbClr val="003366"/>
                </a:solidFill>
                <a:latin typeface="굴림"/>
              </a:rPr>
              <a:t>(IEP), </a:t>
            </a:r>
            <a:r>
              <a:rPr b="0" lang="ko-KR" sz="2000" spc="-1" strike="noStrike">
                <a:solidFill>
                  <a:srgbClr val="003366"/>
                </a:solidFill>
                <a:latin typeface="굴림"/>
              </a:rPr>
              <a:t>혹은 치료시작 및 치료종료 등의 활동에 쉽게 활용함</a:t>
            </a: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실시 및 채점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그림 카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의 읽기 수준에 맞는 읽기 자료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제 전화로 할 수 있는 것 등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낯선 사람 혹은 환자를 모르는 사람도 필요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한 손에 스톱워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다른 손에 연필을 잡고서 검사 결과를 씀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인터뷰를 녹음하여야 함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첵크 사항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환자가 말하는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더듬은 단어 수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실시간 바람직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결과 데이터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5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요약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: 10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A~J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의 상이한 구어 활동에 대한 분류와 계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+ 4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개의 다른 환경에서 검사자 이외의 다른 사람들과 말하는 것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을 가장 적게 유발하는 것에서부터 가장 많이 유발하는 것의 순으로 배열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각 항목별 개별적으로 시간을 재고 분석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총 더듬은 단어수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한 시간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, 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말더듬 비율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SW/M)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투쟁행동은 임상적 말더듬</a:t>
            </a:r>
            <a:r>
              <a:rPr b="0" lang="en-US" sz="1600" spc="-1" strike="noStrike">
                <a:solidFill>
                  <a:srgbClr val="003366"/>
                </a:solidFill>
                <a:latin typeface="굴림"/>
              </a:rPr>
              <a:t>(clinical stuttering)</a:t>
            </a:r>
            <a:r>
              <a:rPr b="0" lang="ko-KR" sz="1600" spc="-1" strike="noStrike">
                <a:solidFill>
                  <a:srgbClr val="003366"/>
                </a:solidFill>
                <a:latin typeface="굴림"/>
              </a:rPr>
              <a:t>으로 분류</a:t>
            </a:r>
            <a:endParaRPr b="0" lang="en-US" sz="16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유창성 인터뷰</a:t>
            </a:r>
            <a:r>
              <a:rPr b="1" lang="en-US" sz="3600" spc="-1" strike="noStrike">
                <a:solidFill>
                  <a:srgbClr val="006666"/>
                </a:solidFill>
                <a:latin typeface="굴림"/>
              </a:rPr>
              <a:t>(FI) </a:t>
            </a:r>
            <a:r>
              <a:rPr b="1" lang="ko-KR" sz="3600" spc="-1" strike="noStrike">
                <a:solidFill>
                  <a:srgbClr val="006666"/>
                </a:solidFill>
                <a:latin typeface="굴림"/>
              </a:rPr>
              <a:t>양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어떤 환자의 유창성인터뷰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(FI) </a:t>
            </a:r>
            <a:r>
              <a:rPr b="0" lang="ko-KR" sz="2800" spc="-1" strike="noStrike">
                <a:solidFill>
                  <a:srgbClr val="003366"/>
                </a:solidFill>
                <a:latin typeface="굴림"/>
              </a:rPr>
              <a:t>양식</a:t>
            </a: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형태분석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그림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FI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의 우측 상단 코너에 말더듬 행동에 대한 형태분석을 제시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형태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①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전체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w/r), ②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부분반복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w/r), ③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연장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p), ④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), ⑤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 어느 하나에 간단히 ○표 함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한 단어에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이상의 형태가 나타난다면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장 심한 혹은 더 심한 형태로 선택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003366"/>
                </a:solidFill>
                <a:latin typeface="Arial"/>
              </a:rPr>
              <a:t>”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개 범주 중 어느 곳에도 넣을 수 없는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단어 앞에서 코를 훌쩍임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와 같은 드문 행동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투쟁에 포함시킴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심한 정도는 전적으로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에 의하여 결정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ild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5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중정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moderat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2.0, 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(severe)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는 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19.0 SW/M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었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이 분석의 약점</a:t>
            </a:r>
            <a:r>
              <a:rPr b="0" lang="en-US" sz="1800" spc="-1" strike="noStrike">
                <a:solidFill>
                  <a:srgbClr val="003366"/>
                </a:solidFill>
                <a:latin typeface="굴림"/>
              </a:rPr>
              <a:t>: 4</a:t>
            </a:r>
            <a:r>
              <a:rPr b="0" lang="ko-KR" sz="1800" spc="-1" strike="noStrike">
                <a:solidFill>
                  <a:srgbClr val="003366"/>
                </a:solidFill>
                <a:latin typeface="굴림"/>
              </a:rPr>
              <a:t>가지 형태의 출현 유무를 나타내지 않음</a:t>
            </a:r>
            <a:endParaRPr b="0" lang="en-US" sz="1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심한 정도 평가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everity): 7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혹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를 사용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0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 없음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, 1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경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…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7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최고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일 경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8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점 척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유창성 인터뷰 심한 정도 지수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Fluency Interview Index of Severity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심한 정도를 평가하는 보다 더 공식적인 시스템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표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9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지수는 완벽하지 않으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P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부분에서 더욱 완벽하지 않다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SI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29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Lowery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가 실시한 인지적 평가 사이의 상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.42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FIIS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이에 유의한 상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r=.51, p&lt;.05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하는 속도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speaking rate)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문제영역임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1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단지 중정도의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SW/M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면서 심한 말더듬인과 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low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에서 중정도의 말하기 속도이면서 매우 심한 말더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대부분 투쟁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은 정확하게 평가하기가 어려움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; 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이유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임상가가 투쟁에 대해서 쉽게 또 당연하게 편견을 가지기 때문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사례 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2.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매우 높거나 매우 낮은 말하기 속도는 문제를 제시하는데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특히 매우 낮은 말하기 속도에서는 더욱 그렇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예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말더듬이 너무 심하여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,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환자는 많은 단어들을 산출할 수 없다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해결책</a:t>
            </a:r>
            <a:r>
              <a:rPr b="0" lang="en-US" sz="1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1400" spc="-1" strike="noStrike">
                <a:solidFill>
                  <a:srgbClr val="003366"/>
                </a:solidFill>
                <a:latin typeface="굴림"/>
              </a:rPr>
              <a:t>형태를 숫자나 말더듬의 상이한 유형의 패턴에 근거한 정교한 채점 시스템을 시도하기보다는 오히려 단순히 그 행동의 존재 여부로써 다루었음</a:t>
            </a:r>
            <a:endParaRPr b="0" lang="en-US" sz="1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표 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9. </a:t>
            </a:r>
            <a:r>
              <a:rPr b="1" lang="ko-KR" sz="3200" spc="-1" strike="noStrike">
                <a:solidFill>
                  <a:srgbClr val="006666"/>
                </a:solidFill>
                <a:latin typeface="굴림"/>
              </a:rPr>
              <a:t>심한 정도에 대한 유창성 인터뷰 지수</a:t>
            </a:r>
            <a:r>
              <a:rPr b="1" lang="en-US" sz="3200" spc="-1" strike="noStrike">
                <a:solidFill>
                  <a:srgbClr val="006666"/>
                </a:solidFill>
                <a:latin typeface="굴림"/>
              </a:rPr>
              <a:t>(FIIS)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66"/>
                </a:solidFill>
                <a:latin typeface="굴림"/>
              </a:rPr>
              <a:t>  </a:t>
            </a:r>
            <a:endParaRPr b="0" lang="en-US" sz="28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006666"/>
                </a:solidFill>
                <a:latin typeface="굴림"/>
              </a:rPr>
              <a:t>부모 혹은 환자가 심한 정도를 평가하기</a:t>
            </a:r>
            <a:endParaRPr b="1" lang="en-US" sz="32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부모의 구어 평가 중요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척도의 신뢰도 및 타당도의 문제점을 인식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하기는 말더듬이 환자 혹은 부모들에게 어떻게 보여지는 지에 대한 정보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경미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고도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, 7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점 척도 사용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말더듬에 대한 객관적인 측정과 높은 상관이 있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43080" indent="-343080"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의 평가와 부모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환자의 평가 사이에 상당한 차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불일치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가능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006666"/>
                </a:solidFill>
                <a:latin typeface="굴림"/>
              </a:rPr>
              <a:t>자연스러움을 평가하기</a:t>
            </a:r>
            <a:endParaRPr b="1" lang="en-US" sz="3600" spc="-1" strike="noStrike">
              <a:solidFill>
                <a:srgbClr val="006666"/>
              </a:solidFill>
              <a:latin typeface="굴림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자연스러움 평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연장 프로그램을 실시해온 환자들을 돕기 위한 필요성에서 개발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한 명 이상의 청자들에게  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1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~9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매우 부자연스러움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많은 연구들이 자연스러움 평가하기가 신뢰할 수 있을 정도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두 가지 문제점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사람들이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임상가가 아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다른 평가자와는 매우 다르게 평가할 수 있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평가자간 신뢰도 낮음</a:t>
            </a:r>
            <a:r>
              <a:rPr b="0" lang="en-US" sz="2400" spc="-1" strike="noStrike">
                <a:solidFill>
                  <a:srgbClr val="003366"/>
                </a:solidFill>
                <a:latin typeface="굴림"/>
              </a:rPr>
              <a:t>)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  <a:p>
            <a:pPr marL="380880" indent="-380880">
              <a:lnSpc>
                <a:spcPct val="80000"/>
              </a:lnSpc>
              <a:spcBef>
                <a:spcPts val="601"/>
              </a:spcBef>
              <a:buClr>
                <a:srgbClr val="003366"/>
              </a:buClr>
              <a:buSzPct val="75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003366"/>
                </a:solidFill>
                <a:latin typeface="굴림"/>
              </a:rPr>
              <a:t>정상적으로 유창한 화자의 자연스러움을 신뢰할 수 있을 정도로 평가하기가 어려웠음</a:t>
            </a:r>
            <a:endParaRPr b="0" lang="en-US" sz="2400" spc="-1" strike="noStrike">
              <a:solidFill>
                <a:srgbClr val="00336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9:43:16Z</dcterms:created>
  <dc:creator>kwon</dc:creator>
  <dc:description/>
  <dc:language>en-US</dc:language>
  <cp:lastModifiedBy>user</cp:lastModifiedBy>
  <dcterms:modified xsi:type="dcterms:W3CDTF">2013-11-13T02:26:50Z</dcterms:modified>
  <cp:revision>23</cp:revision>
  <dc:subject/>
  <dc:title>제 3 장 평가</dc:title>
</cp:coreProperties>
</file>